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media/type.wav" ContentType="audio/x-wav"/>
  <Override PartName="/ppt/media/image5.jpeg" ContentType="image/jpeg"/>
  <Override PartName="/ppt/media/hammer.wav" ContentType="audio/x-wav"/>
  <Override PartName="/ppt/media/image6.jpeg" ContentType="image/jpeg"/>
  <Override PartName="/ppt/media/chimes.wav" ContentType="audio/x-wav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3CC9F-88DA-457C-AF50-6C689C16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A6BB3-09BE-429C-843B-E1F879BE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90F23-6B65-4888-BE3C-BDEEA371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DCE95-F3CD-4756-810B-84374B2B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8A64-03E4-4CF5-B021-1CE19E34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CFD9-61E5-4574-A2D6-497F67FE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F9D8-E264-41A4-9441-727D5BF8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B14E-1EAA-4125-9B47-53A264B0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1349-6F16-4F76-B27C-0169A9FC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AAEB-A753-43F5-9678-6A8B13FB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50B0-CB5E-4F44-907F-BB74AE80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24F28-6682-40F3-A734-56E3673A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00B5-9C22-48EE-BB05-EA26013A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B734-D8EC-4541-B655-D887B1C3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92FD-71B3-476F-BB0E-2757B153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ABBC-0919-4E0F-BBEA-C6FEFCCF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CD6B-D362-4F78-A369-36C8887D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77C0A-E13E-4D3A-945B-856952F0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88EE8-3EB5-495C-9235-FD9B1742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E1225-AC87-45D9-A9C0-0919D6CE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D1ED3-8CAB-459B-8A92-004D33DA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C38AD-D222-4237-9F18-E7F34FBF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180A2-997E-4F3C-AD42-9BA19D21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25209-B564-4D0B-AB6E-4778BCF8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5138-AA28-42C6-A3C6-35516AC21E4C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670A-DFDD-4FDE-9851-B5E7ACA5730D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500" spc="-1" strike="noStrike">
                <a:solidFill>
                  <a:srgbClr val="3333cc"/>
                </a:solidFill>
                <a:latin typeface="Arial"/>
                <a:ea typeface="楷体_GB2312"/>
              </a:rPr>
              <a:t>第一单元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79280" y="2565360"/>
            <a:ext cx="5219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700" spc="-1" strike="noStrike">
                <a:solidFill>
                  <a:srgbClr val="ff0066"/>
                </a:solidFill>
                <a:latin typeface="Monotype Corsiva"/>
                <a:ea typeface="华文行楷"/>
              </a:rPr>
              <a:t>古代中国的政治制度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573408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湖南省浏阳市田家炳实验中学 周祥、潘雷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79280" y="3141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39640" y="260280"/>
            <a:ext cx="7848360" cy="3673080"/>
            <a:chOff x="539640" y="260280"/>
            <a:chExt cx="7848360" cy="367308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rcRect l="13128" t="15126" r="8126" b="14346"/>
            <a:stretch/>
          </p:blipFill>
          <p:spPr>
            <a:xfrm>
              <a:off x="539640" y="260280"/>
              <a:ext cx="7848360" cy="36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77520" y="431280"/>
              <a:ext cx="244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  <a:ea typeface="隶书"/>
                </a:rPr>
                <a:t>西周分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187280" y="414972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根据教材第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页及上图，将封国归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68360" y="47242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王室贵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40000" y="5445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代贵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51577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609300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    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35280" y="5013360"/>
            <a:ext cx="215640" cy="1511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4724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燕、鲁、卫、晋、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5445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杞、宋、许、陈、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6093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  <p:sndAc>
      <p:stSnd>
        <p:snd r:embed="rId2" name="hammer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舒体"/>
              </a:rPr>
              <a:t>二、等级森严的分封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义务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用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破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11280" y="14986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巩固统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68360" y="2016000"/>
            <a:ext cx="45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王族、功臣、先代贵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68360" y="263700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封建亲戚，以蕃屏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95640" y="3213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镇守疆土、随从作战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纳贡赋、朝觐述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40000" y="4221000"/>
            <a:ext cx="3960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强统治，巩固王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84360" y="4896000"/>
            <a:ext cx="6120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周后期，王权衰弱，分封制受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  <p:sndAc>
      <p:stSnd>
        <p:snd r:embed="rId1" name="type.wav"/>
      </p:stSnd>
    </p:sndAc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920" y="1213200"/>
            <a:ext cx="88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周王将商代贵族也分封为诸侯，主要目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保护贵族的世袭血统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调整统治阶级内部矛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加强对奴隶和平民的控制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巩固刚建立的西周政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春秋时期，由“礼乐征伐自天子出”变为“礼乐征伐自诸侯出”。这种现象主要反映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周天子失去了军事力量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周天子将权力下放到诸侯国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周天子失去了天下共主的地位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诸侯国帮助周天子巩固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56360" y="1700280"/>
            <a:ext cx="108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D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300720" y="4437000"/>
            <a:ext cx="108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C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50920" y="1711440"/>
            <a:ext cx="748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周天子年老了，打算立下继承人。周天子有四个儿女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大儿子——二夫人所生，二儿子——大夫人所生，三女儿——大夫人所生，四儿子——大夫人所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大儿子：我是长子，年纪最长，你们都应该听我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二儿子：我是正室夫人所生，而且我又是儿子，当然   应该由我来继承王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三女儿：我最聪明伶俐，学识渊博，所谓巾帼不 让须眉，当然由我来统治周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四儿子：你们都别争了！我是父王最疼爱的儿子，父王一定会挑我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 rot="5400000">
            <a:off x="6614640" y="3052800"/>
            <a:ext cx="317196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latin typeface="华文新魏"/>
              </a:rPr>
              <a:t>王位之争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333360"/>
            <a:ext cx="7200720" cy="1224000"/>
          </a:xfrm>
          <a:prstGeom prst="cloudCallout">
            <a:avLst>
              <a:gd name="adj1" fmla="val 55865"/>
              <a:gd name="adj2" fmla="val -33398"/>
            </a:avLst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隶书"/>
              </a:rPr>
              <a:t>王位应该由谁来继承呢？你的依据是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631280" y="487440"/>
            <a:ext cx="1512720" cy="71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152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32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隶书"/>
              </a:rPr>
              <a:t>议一议</a:t>
            </a:r>
            <a:endParaRPr b="0" lang="en-US" sz="3200" spc="1" strike="noStrike">
              <a:ln w="32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隶书"/>
              <a:ea typeface="隶书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956720" y="631800"/>
            <a:ext cx="9522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50920" y="1628640"/>
            <a:ext cx="7920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620640"/>
            <a:ext cx="460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舒体"/>
              </a:rPr>
              <a:t>三．西周的宗法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57480" y="13716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20800" y="16272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原始社会的父系家长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49880" y="23479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规定宗族内嫡庶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08040" y="3139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嫡长子继承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400536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保证了贵族在政治上的垄断和特权地位，也有利于统治集团内部的稳定和团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  <p:sndAc>
      <p:stSnd>
        <p:snd r:embed="rId1" name="type.wav"/>
      </p:stSnd>
    </p:sndAc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80880" y="10666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5796000" cy="3816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79280" y="4292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华文行楷"/>
              </a:rPr>
              <a:t>请思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：宗法制与分封制的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4360" y="5157720"/>
            <a:ext cx="820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二者是互为表里的具有政治性质的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宗法制在政治制度方面的体现就是分封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72880" y="476280"/>
            <a:ext cx="11552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分封制是权力的分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48880" y="1125360"/>
            <a:ext cx="11552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宗法制是分配的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95280" y="1341000"/>
            <a:ext cx="8101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西周宗法制的最大特点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嫡长子继承制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分大小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与分封制互为表里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宗族网庞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156360" y="2205000"/>
            <a:ext cx="108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A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6980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33"/>
                </a:solidFill>
                <a:latin typeface="Arial"/>
                <a:ea typeface="华文行楷"/>
              </a:rPr>
              <a:t>知识整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133560" y="1601640"/>
            <a:ext cx="10335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9933"/>
                </a:solidFill>
                <a:latin typeface="Arial"/>
                <a:ea typeface="华文行楷"/>
              </a:rPr>
              <a:t>夏商周的政治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8720" y="189072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73080" y="16016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夏商的政治制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73080" y="4194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西周的政治制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1386000"/>
            <a:ext cx="144360" cy="1008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5080" y="3546360"/>
            <a:ext cx="142920" cy="1656000"/>
          </a:xfrm>
          <a:custGeom>
            <a:avLst/>
            <a:gdLst>
              <a:gd name="textAreaLeft" fmla="*/ 91440 w 142920"/>
              <a:gd name="textAreaRight" fmla="*/ 143280 w 14292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7440" y="954000"/>
            <a:ext cx="144360" cy="1008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21080" y="1243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1080" y="2251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地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3330720"/>
            <a:ext cx="1224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33"/>
                </a:solidFill>
                <a:latin typeface="Arial"/>
                <a:ea typeface="华文行楷"/>
              </a:rPr>
              <a:t>分封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9933"/>
                </a:solidFill>
                <a:latin typeface="Arial"/>
                <a:ea typeface="华文行楷"/>
              </a:rPr>
              <a:t>（重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4915080"/>
            <a:ext cx="122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33"/>
                </a:solidFill>
                <a:latin typeface="Arial"/>
                <a:ea typeface="华文行楷"/>
              </a:rPr>
              <a:t>宗法制</a:t>
            </a:r>
            <a:r>
              <a:rPr b="0" lang="zh-CN" sz="1800" spc="-1" strike="noStrike">
                <a:solidFill>
                  <a:srgbClr val="339933"/>
                </a:solidFill>
                <a:latin typeface="Arial"/>
              </a:rPr>
              <a:t>（重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84720" y="2970360"/>
            <a:ext cx="144360" cy="1223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3640"/>
              <a:gd name="textAreaBottom" fmla="*/ 1191960 h 122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40360" y="882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王位世袭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形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40360" y="1746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相、卿、师等的设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68720" y="24670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3440" y="22510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封侯、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29080" y="32590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29080" y="36194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29080" y="2754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9080" y="3978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破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29080" y="4554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29080" y="49150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29080" y="52754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05440" y="34750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05440" y="38354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05440" y="4194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03640" y="4797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03640" y="5157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05440" y="54910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05440" y="2970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84720" y="4699080"/>
            <a:ext cx="142920" cy="86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8720" y="32590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封建诸侯，以蕃屏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08720" y="36194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加强统治，巩固王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08720" y="3978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西周后期，王权衰弱，被破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4554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规定宗族内嫡庶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08720" y="49150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嫡长子继承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08720" y="52754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保证了贵族的垄断地位，有利于统治集团内部的稳定和团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08720" y="2610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镇守疆土、随从作战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纳贡赋、朝觐述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  <p:sndAc>
      <p:stSnd>
        <p:snd r:embed="rId1" name="chimes.wav"/>
      </p:stSnd>
    </p:sndAc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508720" y="620640"/>
            <a:ext cx="3168720" cy="49672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71640" y="450864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白色部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姓诸侯  黑色部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异姓诸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0920" y="765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方正舒体"/>
                <a:ea typeface="方正舒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方正舒体"/>
                <a:ea typeface="方正舒体"/>
              </a:rPr>
              <a:t>拓展探究</a:t>
            </a:r>
            <a:r>
              <a:rPr b="1" lang="zh-CN" sz="3600" spc="-1" strike="noStrike">
                <a:solidFill>
                  <a:srgbClr val="ff0066"/>
                </a:solidFill>
                <a:latin typeface="方正舒体"/>
                <a:ea typeface="方正舒体"/>
              </a:rPr>
              <a:t>):</a:t>
            </a:r>
            <a:r>
              <a:rPr b="1" lang="zh-CN" sz="3600" spc="-1" strike="noStrike">
                <a:solidFill>
                  <a:srgbClr val="ff0066"/>
                </a:solidFill>
                <a:latin typeface="方正舒体"/>
                <a:ea typeface="方正舒体"/>
              </a:rPr>
              <a:t>阅读下列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43120" y="4365720"/>
            <a:ext cx="185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221000"/>
            <a:ext cx="54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900000" y="1844640"/>
            <a:ext cx="3456000" cy="2521080"/>
            <a:chOff x="900000" y="1844640"/>
            <a:chExt cx="3456000" cy="2521080"/>
          </a:xfrm>
        </p:grpSpPr>
        <p:sp>
          <p:nvSpPr>
            <p:cNvPr id="250" name=""/>
            <p:cNvSpPr/>
            <p:nvPr/>
          </p:nvSpPr>
          <p:spPr>
            <a:xfrm>
              <a:off x="900000" y="1844640"/>
              <a:ext cx="3456000" cy="252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1" name=""/>
            <p:cNvGraphicFramePr/>
            <p:nvPr/>
          </p:nvGraphicFramePr>
          <p:xfrm>
            <a:off x="1116000" y="2421000"/>
            <a:ext cx="2736720" cy="1320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6000" y="2421000"/>
                      <a:ext cx="2736720" cy="132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3" name=""/>
            <p:cNvSpPr/>
            <p:nvPr/>
          </p:nvSpPr>
          <p:spPr>
            <a:xfrm>
              <a:off x="2340000" y="2565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24000" y="314172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7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826560" y="404640"/>
            <a:ext cx="8137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回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荀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儒效篇》记载：“（周公）兼治天下，立七十一国，姬姓独居五十三人。”图一是根据资料设计的示意图。据此，你认为西周在分封对象上有什么突出特点？举出几个这样的封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同姓亲族是分封的主体。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图二是大宗、小宗示意图，这幅图反映出西周的宗法制有哪些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①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嫡长子继承制为核心，大宗和小宗有相对性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②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血缘纽带与政治关系相结合，“国”和“家”紧密结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③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大宗和小宗既是家族关系，又是政治隶属关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④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形成森严的社会等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根据你的理解，上述两种制度这间是怎样的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相辅相成，互为表里。分封制确立了西周的统治秩序，宗法制巩固了分封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105264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周天子年老了，打算立下继承人。周天子有四个儿女：大儿子——二夫人所生，二儿子——大夫人所生，三女儿——大夫人所生，四儿子——大夫人所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细黑"/>
                <a:ea typeface="华文细黑"/>
              </a:rPr>
              <a:t>大儿子：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我是长子，年纪最长，你们都应该听我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细黑"/>
                <a:ea typeface="华文细黑"/>
              </a:rPr>
              <a:t>二儿子：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我是正室夫人所生，而且我又是儿子，当然   应该由我来继承王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细黑"/>
                <a:ea typeface="华文细黑"/>
              </a:rPr>
              <a:t>三女儿：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我最聪明伶俐，学识渊博，所谓巾帼不 让须眉，当然由我来统治周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细黑"/>
                <a:ea typeface="华文细黑"/>
              </a:rPr>
              <a:t>四儿子：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你们都别争了！我是父王最疼爱的儿子，父王一定会挑我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7024320" y="3041640"/>
            <a:ext cx="317196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latin typeface="华文新魏"/>
              </a:rPr>
              <a:t>王位之争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0"/>
            <a:ext cx="6337080" cy="1224000"/>
          </a:xfrm>
          <a:prstGeom prst="cloudCallout">
            <a:avLst>
              <a:gd name="adj1" fmla="val 63453"/>
              <a:gd name="adj2" fmla="val -6162"/>
            </a:avLst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王位应该由谁来继承呢？你的依据是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31280" y="487440"/>
            <a:ext cx="1512720" cy="71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152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32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隶书"/>
              </a:rPr>
              <a:t>议一议</a:t>
            </a:r>
            <a:endParaRPr b="0" lang="en-US" sz="3200" spc="1" strike="noStrike">
              <a:ln w="32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隶书"/>
              <a:ea typeface="隶书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956720" y="631800"/>
            <a:ext cx="9522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４）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当前，社会上仍然存在“尊宗敬祖”、“认祖归宗” 等现象和传宗接代、重男轻女的思想，由此探讨宗法制对我国社会有什么深远的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证了贵族在政治上的垄断和特权地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防止贵族之间因为权力的继承问题发生纷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护贵族统治集团内部的稳定与团结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宗法制成为我国数千年来封建统治者享受特权的凭借，对中国社会产生了深远的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2679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第</a:t>
            </a:r>
            <a:r>
              <a:rPr b="1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1</a:t>
            </a:r>
            <a:r>
              <a:rPr b="1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课  </a:t>
            </a:r>
            <a:br>
              <a:rPr sz="7200"/>
            </a:br>
            <a:r>
              <a:rPr b="1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夏商西周的政治制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4005000"/>
            <a:ext cx="845964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00ff"/>
                </a:solidFill>
                <a:latin typeface="Arial"/>
                <a:ea typeface="华文新魏"/>
              </a:rPr>
              <a:t>世袭制、分封制、宗法制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从禅让制到王位世袭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夏朝的建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2</a:t>
            </a:r>
            <a:r>
              <a:rPr b="0" lang="zh-CN" sz="32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、从禅让制到王位世袭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zh-CN" sz="32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、从中央到地方的行政管理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夏商的早期政治制度对中国早期政治制度发展的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5" action="ppaction://hlinksldjump"/>
          </p:cNvPr>
          <p:cNvSpPr/>
          <p:nvPr/>
        </p:nvSpPr>
        <p:spPr>
          <a:xfrm>
            <a:off x="7740720" y="623736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472428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孔子说：“殷因于夏礼，所损益，可知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周因于殷礼，所损益，可知也。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5157720"/>
            <a:ext cx="824400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大禹的身份和地位发生了哪些变化？为什么会发生这些变化呢？这些变化对后来启的王位有无影响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376720" cy="4176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372360" y="450864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戴冠冕的夏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5905440" cy="3024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3573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禹治水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422100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行楷"/>
              </a:rPr>
              <a:t>读图，请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979640" y="476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部落首领</a:t>
            </a: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禹</a:t>
            </a: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1268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禅让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04000" y="765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27640" y="1773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世袭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03280" y="213372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3141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公天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16360" y="3429000"/>
            <a:ext cx="21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40360" y="3068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家天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4005360"/>
            <a:ext cx="153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4869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5516640"/>
            <a:ext cx="1873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476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国王</a:t>
            </a: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禹</a:t>
            </a: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15280" y="476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国王</a:t>
            </a: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启</a:t>
            </a: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4005360"/>
            <a:ext cx="80643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有人说：禅让制体现了民主，王位世袭制体现了专制。请你思考：王位世袭制代替禅让制是历史的进步还是倒退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参考答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观点：历史的进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王位世袭制是生产力发展的结果，私有制发展的结果，阶级对立的产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76500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765000"/>
            <a:ext cx="793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1628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建立国家政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04000" y="227664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95640" y="90792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40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臣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9640" y="692280"/>
            <a:ext cx="244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-324000" y="3213000"/>
            <a:ext cx="33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内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4000" y="2276640"/>
            <a:ext cx="15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2492280"/>
            <a:ext cx="287280" cy="216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64000" y="2349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相、卿士、师 </a:t>
            </a:r>
            <a:r>
              <a:rPr b="1" lang="zh-CN" sz="2400" spc="-1" strike="noStrike">
                <a:solidFill>
                  <a:srgbClr val="993366"/>
                </a:solidFill>
                <a:latin typeface="Arial"/>
              </a:rPr>
              <a:t>等的设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08360" y="2276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95640" y="4365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19640" y="4365720"/>
            <a:ext cx="38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侯、伯 </a:t>
            </a:r>
            <a:r>
              <a:rPr b="1" lang="zh-CN" sz="2400" spc="-1" strike="noStrike">
                <a:solidFill>
                  <a:srgbClr val="993366"/>
                </a:solidFill>
                <a:latin typeface="Arial"/>
              </a:rPr>
              <a:t>等的设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826920" y="5815080"/>
            <a:ext cx="1043280" cy="853920"/>
          </a:xfrm>
          <a:custGeom>
            <a:avLst/>
            <a:gdLst>
              <a:gd name="textAreaLeft" fmla="*/ 55080 w 1043280"/>
              <a:gd name="textAreaRight" fmla="*/ 988200 w 1043280"/>
              <a:gd name="textAreaTop" fmla="*/ 55080 h 853920"/>
              <a:gd name="textAreaBottom" fmla="*/ 798840 h 853920"/>
            </a:gdLst>
            <a:ahLst/>
            <a:rect l="textAreaLeft" t="textAreaTop" r="textAreaRight" b="textAreaBottom"/>
            <a:pathLst>
              <a:path w="26388" h="21600">
                <a:moveTo>
                  <a:pt x="0" y="0"/>
                </a:moveTo>
                <a:lnTo>
                  <a:pt x="26388" y="0"/>
                </a:lnTo>
                <a:lnTo>
                  <a:pt x="26388" y="21600"/>
                </a:lnTo>
                <a:lnTo>
                  <a:pt x="0" y="21600"/>
                </a:lnTo>
                <a:close/>
              </a:path>
              <a:path fill="lightenLess" w="26388" h="21600">
                <a:moveTo>
                  <a:pt x="0" y="0"/>
                </a:moveTo>
                <a:lnTo>
                  <a:pt x="26388" y="0"/>
                </a:lnTo>
                <a:lnTo>
                  <a:pt x="24988" y="1400"/>
                </a:lnTo>
                <a:lnTo>
                  <a:pt x="1400" y="1400"/>
                </a:lnTo>
                <a:close/>
              </a:path>
              <a:path fill="darken" w="26388" h="21600">
                <a:moveTo>
                  <a:pt x="26388" y="0"/>
                </a:moveTo>
                <a:lnTo>
                  <a:pt x="26388" y="21600"/>
                </a:lnTo>
                <a:lnTo>
                  <a:pt x="24988" y="20200"/>
                </a:lnTo>
                <a:lnTo>
                  <a:pt x="24988" y="1400"/>
                </a:lnTo>
                <a:close/>
              </a:path>
              <a:path fill="darkenLess" w="26388" h="21600">
                <a:moveTo>
                  <a:pt x="26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88" y="20200"/>
                </a:lnTo>
                <a:close/>
              </a:path>
              <a:path fill="lighten" w="26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88" h="21600">
                <a:moveTo>
                  <a:pt x="6187" y="10800"/>
                </a:moveTo>
                <a:lnTo>
                  <a:pt x="20200" y="3794"/>
                </a:lnTo>
                <a:lnTo>
                  <a:pt x="20200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1215000"/>
            <a:ext cx="849600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禹建立夏朝。禹死后，他的儿子启登上王位对此认识不正确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“公天下”变为“家天下”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王位世袭制代替了禅让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社会历史的倒退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私有制产生的必然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中国早期政治制度起源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汉代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夏朝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春秋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秦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公元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世纪，中国王位世袭制代替了禅让制，主要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巩固部落联盟的需要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发展统一国家的需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居民“各亲其亲，各子其子”的结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私有制发展和阶级对抗的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796000" y="981000"/>
            <a:ext cx="108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C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516720" y="2565360"/>
            <a:ext cx="108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B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227640" y="4653000"/>
            <a:ext cx="108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D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066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舒体"/>
              </a:rPr>
              <a:t>二、西周的分封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1413000"/>
            <a:ext cx="763272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元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4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武王、姜子牙等，大举伐纣，经过牧野之战，一战而胜，结束了商王朝的统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立了周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采取了一项重要的措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封制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请思考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舒体"/>
              </a:rPr>
              <a:t>如果你是周王，你会怎样进行分封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22:54:56Z</dcterms:created>
  <dc:creator/>
  <dc:description/>
  <dc:language>en-US</dc:language>
  <cp:lastModifiedBy>zhujf</cp:lastModifiedBy>
  <dcterms:modified xsi:type="dcterms:W3CDTF">2007-09-08T14:35:51Z</dcterms:modified>
  <cp:revision>196</cp:revision>
  <dc:subject/>
  <dc:title>第一单元</dc:title>
</cp:coreProperties>
</file>