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A4F-F1BA-4615-A0AB-38AEA218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2A9-19A3-4CD1-B27F-2F17D59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838-8131-49C7-B43F-529836C6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14D-607F-43F2-9FF9-BE148496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5217-36FF-4533-B9E3-98901A6E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5A82-6CB9-4797-A949-6DC8DFC8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048D-58C4-4F35-9A30-7A257A6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3FC3-DB05-4BFD-9DA2-9FF55C99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3A4-C2FB-4159-88EB-C223E14C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0590-FC9E-4BFA-AF79-8B793193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47B4-6D94-468A-B449-7C9D9052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A15-3579-4C18-AB40-9710107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2E4-86F6-4DCA-8AB6-2A6CBB8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9EA8-0E4D-41EF-802B-19F8FD81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D9EA-7020-4FDE-B213-45CC39CC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25F3-27CE-46BE-9257-D43D7E27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30BB-FC91-4C3E-A147-36689B63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EEE-F3B3-4DA1-B596-D0B1EC72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285-5D0D-4146-9EC9-5856436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96F4-84D7-44AF-AE88-32E0F501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E93-3776-48AA-96E5-FC5B1DF2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D42-B9A7-40A8-8258-727EBCD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BBD-7CF7-46B2-82A3-53BF9F09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67A-FB51-4E96-A85F-6216220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0E23-1760-4F63-8A51-A43F6EC6554D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8D90-4C4A-4E46-AE8A-41D09A31E401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3" name="a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81080" y="63388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724"/>
                </a:solidFill>
                <a:latin typeface="Times New Roman"/>
              </a:rPr>
              <a:t>广播电视广告有“规矩”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0724"/>
                </a:solidFill>
                <a:latin typeface="Times New Roman"/>
              </a:rPr>
              <a:t>《广播电视广告播放管理暂行办法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二课“在规则中自由成长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调整教材，优化整合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教材信息有取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895480"/>
            <a:ext cx="58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三课“在生活中运用规则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抓住关键，利于教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就地取材，激发责任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029200"/>
            <a:ext cx="5715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综合探究七“我是社会小主人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提高认识，深度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85800"/>
            <a:ext cx="228600" cy="609480"/>
          </a:xfrm>
          <a:custGeom>
            <a:avLst/>
            <a:gdLst>
              <a:gd name="textAreaLeft" fmla="*/ 94320 w 228600"/>
              <a:gd name="textAreaRight" fmla="*/ 134280 w 22860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438280"/>
            <a:ext cx="228600" cy="838440"/>
          </a:xfrm>
          <a:custGeom>
            <a:avLst/>
            <a:gdLst>
              <a:gd name="textAreaLeft" fmla="*/ 94320 w 228600"/>
              <a:gd name="textAreaRight" fmla="*/ 134280 w 228600"/>
              <a:gd name="textAreaTop" fmla="*/ 345600 h 838440"/>
              <a:gd name="textAreaBottom" fmla="*/ 492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876920"/>
            <a:ext cx="228600" cy="914400"/>
          </a:xfrm>
          <a:custGeom>
            <a:avLst/>
            <a:gdLst>
              <a:gd name="textAreaLeft" fmla="*/ 94320 w 228600"/>
              <a:gd name="textAreaRight" fmla="*/ 134280 w 2286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533880" y="1066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策略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  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角色扮演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现代技术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问题探究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社会调查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  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辩论式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讨论式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愉快教学策略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迁移和扩容策略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28960" y="685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资源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学生的生活背景和生活经验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课文中提供的信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师提供和学生自主收集的资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与学过程中的生成性资源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11a60"/>
                </a:solidFill>
                <a:latin typeface="Times New Roman"/>
                <a:ea typeface="黑体"/>
              </a:rPr>
              <a:t>教学案例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</a:rPr>
              <a:t>第三课     在生活中运用规则</a:t>
            </a:r>
            <a:r>
              <a:rPr b="1" lang="zh-CN" sz="2800" spc="-1" strike="noStrike">
                <a:solidFill>
                  <a:srgbClr val="311a60"/>
                </a:solidFill>
                <a:latin typeface="新宋体"/>
              </a:rPr>
              <a:t>教学流程的整体构架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      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活动一      活动二       活动三       活动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1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选择 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2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理由   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3</a:t>
            </a: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、你的收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11a60"/>
                </a:solidFill>
                <a:latin typeface="Times New Roman"/>
                <a:ea typeface="新宋体"/>
              </a:rPr>
              <a:t> 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                                     </a:t>
            </a:r>
            <a:r>
              <a:rPr b="0" lang="zh-CN" sz="2800" spc="-1" strike="noStrike">
                <a:solidFill>
                  <a:srgbClr val="311a60"/>
                </a:solidFill>
                <a:latin typeface="Times New Roman"/>
              </a:rPr>
              <a:t>活动五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517920"/>
            <a:ext cx="2514600" cy="673200"/>
          </a:xfrm>
          <a:prstGeom prst="line">
            <a:avLst/>
          </a:prstGeom>
          <a:ln w="1260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23920" y="3429000"/>
            <a:ext cx="2210040" cy="76212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95320" y="3505320"/>
            <a:ext cx="381240" cy="68580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05320"/>
            <a:ext cx="533520" cy="685800"/>
          </a:xfrm>
          <a:prstGeom prst="line">
            <a:avLst/>
          </a:prstGeom>
          <a:ln w="1260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51055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914400"/>
          <a:ext cx="8534160" cy="4614840"/>
        </p:xfrm>
        <a:graphic>
          <a:graphicData uri="http://schemas.openxmlformats.org/drawingml/2006/table">
            <a:tbl>
              <a:tblPr/>
              <a:tblGrid>
                <a:gridCol w="1324080"/>
                <a:gridCol w="72100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社会保障制度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以案为例讨论交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观看“桑兰事件”的录象资料、以及本地相关案例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5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意外伤残或遇到危难时，桑兰或某某作出了怎样的选择？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你认为，他们作出这样的选择的理由是什么？（小组合作学习，自由阐述，适时穿插相关制度的知识及展示当地儿童福利院、敬老院等相关图片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引导学生从知识、方法、道德意识、责任意识、权利、义务等多个角度来谈收获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初步了解社会保障制度的有关内容，初步学会选择在遇到意外伤残或遇到危难时，正确运用规则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一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914400"/>
          <a:ext cx="8534160" cy="481500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紧急救险的规则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角色扮演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自由组合，分小组分别扮演遇到火灾、危急病人、人身安全受到威胁的情况下救助、求助的场景（给出内容、时间等要求，课前进行排演）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仔细观看后，请指出这三个场景短剧中，有哪些你认为不对或有问题的地方。（即对剧中行为正确与不正确的选择，合理与不合理的选择。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请说明理由。（适时补充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10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20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19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等使用知识和其他安全小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初步了解遇险时的紧急救助常识，初步学会选择并正确运用此类规则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二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14400"/>
          <a:ext cx="8534160" cy="542448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消费者权益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讨论分析情景材料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教师编辑一则关于中学生消费和其他权益受侵害的综合材料（或绘制一组相关漫画）。材料中应该尽量包含中学生有可能遇到的多个情景和多种情况。编辑时注意情境创设要贴近生活，故事情节要连环，问题要多样化，正面与反面的结合。（可对课文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至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页的案例加以处理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认真阅读后，请你说说故事主人翁的哪些做法你是赞同的，哪些做法你不赞同？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假如你遇到与故事主人翁类似的情况，你会选择什么方式解决问题？简单说明理由。（适时补充消费者权益、其他权益和律师的相关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通过分析，初步了解消费者权益等相关法律知识，学会选择有效解决侵权问题的途径和办法，增强法律意识和自我保护意识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三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914400"/>
          <a:ext cx="8534160" cy="451008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其他规则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漫画分析讨论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请有绘画特长的学生将课文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58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页的第一个案例绘制成类似于“君子动口”的情境漫画，教师引导进行适当的改编。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欣赏漫画，请指出漫画中的哪些人物的哪做法是对的或是错的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如果你在场，你会怎么说，怎么做？请说明理由。（适时补充相关知识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在活动中，你有一些什么收获？（同上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在前三个活动的基础上再进行活动（四），是为进一步增强学生的规则意识、道德意识、社会责任意识，为做富有责任心和规则意识的公民奠定基础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四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1219320"/>
          <a:ext cx="8534160" cy="4190760"/>
        </p:xfrm>
        <a:graphic>
          <a:graphicData uri="http://schemas.openxmlformats.org/drawingml/2006/table">
            <a:tbl>
              <a:tblPr/>
              <a:tblGrid>
                <a:gridCol w="1371600"/>
                <a:gridCol w="716256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主题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关于对规则的实践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形式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任务驱动调查实践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载体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请学生调查自己所在的地区、社区、学校、班级、家庭等是否存在前四个活动中存在的类似的问题或其他问题 。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问题探究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你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所在的地区、社区、学校、家庭等是否存在前四个活动中存在的类似的问题？或其他问题？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面对这个或这些问题，谈谈你的看法和做法（要谈出自己先前的想法和做法，到现在的想法和做法的一些变化。）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、制定计划，定期为自己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所在的地区、社区、学校、班级和家庭做自己力所能及的小事。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活动目标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新宋体"/>
                        </a:rPr>
                        <a:t>实践体验，学以致用，做富有责任心和规则意识的公民。</a:t>
                      </a:r>
                      <a:r>
                        <a:rPr b="1" lang="zh-CN" sz="2000" spc="-1" strike="noStrike">
                          <a:solidFill>
                            <a:srgbClr val="311a6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0492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活动五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28800" y="2514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b10919"/>
                </a:solidFill>
                <a:latin typeface="Times New Roman"/>
                <a:ea typeface="华文彩云"/>
              </a:rPr>
              <a:t>再  见  ！</a:t>
            </a:r>
            <a:endParaRPr b="0" lang="en-US" sz="8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05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i="1" lang="zh-CN" sz="4800" spc="-1" strike="noStrike">
                <a:solidFill>
                  <a:srgbClr val="b10919"/>
                </a:solidFill>
                <a:latin typeface="华文彩云"/>
                <a:ea typeface="华文彩云"/>
              </a:rPr>
              <a:t>第七单元    社会生活的规则</a:t>
            </a:r>
            <a:br>
              <a:rPr sz="4800"/>
            </a:b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10919"/>
                </a:solidFill>
                <a:latin typeface="新宋体"/>
              </a:rPr>
              <a:t>浙江省丽水市莲都区教研室</a:t>
            </a:r>
            <a:r>
              <a:rPr b="0" lang="zh-CN" sz="3200" spc="-1" strike="noStrike">
                <a:solidFill>
                  <a:srgbClr val="b10919"/>
                </a:solidFill>
                <a:latin typeface="Times New Roman"/>
                <a:ea typeface="新宋体"/>
              </a:rPr>
              <a:t>    </a:t>
            </a:r>
            <a:r>
              <a:rPr b="0" lang="zh-CN" sz="3200" spc="-1" strike="noStrike">
                <a:solidFill>
                  <a:srgbClr val="b10919"/>
                </a:solidFill>
                <a:latin typeface="新宋体"/>
              </a:rPr>
              <a:t>徐红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  <a:ea typeface="新宋体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一、教材分析                   二、教学建议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地位作用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目标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策略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材特点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资源                            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教学案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60278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i="1" lang="zh-CN" sz="3200" spc="-1" strike="noStrike">
                <a:solidFill>
                  <a:srgbClr val="311a60"/>
                </a:solidFill>
                <a:latin typeface="Times New Roman"/>
              </a:rPr>
              <a:t>、本单元与七年级下册中其他单元的关联</a:t>
            </a:r>
            <a:br>
              <a:rPr sz="3200"/>
            </a:br>
            <a:endParaRPr b="0" i="1" lang="en-US" sz="3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前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六单元 走进社会                     </a:t>
            </a:r>
            <a:r>
              <a:rPr b="1" lang="zh-CN" sz="2000" spc="-1" strike="noStrike">
                <a:solidFill>
                  <a:srgbClr val="fb0724"/>
                </a:solidFill>
                <a:latin typeface="Times New Roman"/>
              </a:rPr>
              <a:t>第七单元 社会生活的规则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深化</a:t>
            </a:r>
            <a:r>
              <a:rPr b="1" lang="zh-CN" sz="2000" spc="-1" strike="noStrike">
                <a:solidFill>
                  <a:srgbClr val="fb0724"/>
                </a:solidFill>
                <a:latin typeface="Times New Roman"/>
              </a:rPr>
              <a:t>              （承上启下纽带桥梁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深               渗                            深          前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入               透                     究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理              体               拓          提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解            现        展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八单元 走向富足的文明生活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                          </a:t>
            </a:r>
            <a:r>
              <a:rPr b="1" lang="zh-CN" sz="2000" spc="-1" strike="noStrike">
                <a:solidFill>
                  <a:srgbClr val="311a60"/>
                </a:solidFill>
                <a:latin typeface="Times New Roman"/>
              </a:rPr>
              <a:t>第九单元 丰富多彩的精神生活</a:t>
            </a:r>
            <a:r>
              <a:rPr b="0" lang="zh-CN" sz="20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057400"/>
            <a:ext cx="12193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742840" y="2286000"/>
            <a:ext cx="12193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2666880"/>
            <a:ext cx="1627200" cy="28195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44280" y="2666880"/>
            <a:ext cx="1584360" cy="27432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19720" y="2895120"/>
            <a:ext cx="1452600" cy="25146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676760" y="2895480"/>
            <a:ext cx="1495440" cy="25909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-4575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-6094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0"/>
            <a:ext cx="8610480" cy="74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63634"/>
                </a:solidFill>
                <a:latin typeface="Times New Roman"/>
              </a:rPr>
              <a:t>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第七单元      社会生活的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生活离不开规则             没有规矩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关于规则的故事                                                                 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规则有什么用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源于生活用于生活       不成方圆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权利：在规则中行使       自由：在规则中拥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规则为什么有用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义务：在规则中履行      （在规则中自由成长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寻求社会保障和紧急救险的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当个人权益受到侵犯时                           我是社会小主人           </a:t>
            </a:r>
            <a:r>
              <a:rPr b="1" lang="zh-CN" sz="1800" spc="-1" strike="noStrike">
                <a:solidFill>
                  <a:srgbClr val="fb0724"/>
                </a:solidFill>
                <a:latin typeface="Times New Roman"/>
              </a:rPr>
              <a:t>如何运用规则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在生活中运用规则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承担社会责任的选择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1a6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11a60"/>
                </a:solidFill>
                <a:latin typeface="Times New Roman"/>
              </a:rPr>
              <a:t>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447920"/>
            <a:ext cx="38124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99072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990720"/>
            <a:ext cx="0" cy="91440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9051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9907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990720"/>
            <a:ext cx="0" cy="83808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371600"/>
            <a:ext cx="60948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1371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266688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2666880"/>
            <a:ext cx="0" cy="83844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50532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3124080"/>
            <a:ext cx="53352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1218960" cy="75960"/>
          </a:xfrm>
          <a:prstGeom prst="rightArrow">
            <a:avLst>
              <a:gd name="adj1" fmla="val 50000"/>
              <a:gd name="adj2" fmla="val 401185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3434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0" cy="16765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60199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181480"/>
            <a:ext cx="609480" cy="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1055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f9dbd3"/>
          </a:soli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37160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371600"/>
            <a:ext cx="0" cy="46483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601992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4520" y="1371600"/>
            <a:ext cx="2286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3120" y="1371600"/>
            <a:ext cx="0" cy="37339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10480" y="5105520"/>
            <a:ext cx="15264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733920"/>
            <a:ext cx="76320" cy="0"/>
          </a:xfrm>
          <a:prstGeom prst="line">
            <a:avLst/>
          </a:prstGeom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3120" y="3352680"/>
            <a:ext cx="15228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228240"/>
            <a:ext cx="0" cy="350532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28600"/>
            <a:ext cx="213372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915400" y="228600"/>
            <a:ext cx="0" cy="312408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3240" y="228600"/>
            <a:ext cx="2971800" cy="0"/>
          </a:xfrm>
          <a:prstGeom prst="line">
            <a:avLst/>
          </a:prstGeom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1600200"/>
            <a:ext cx="0" cy="114300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3352680"/>
            <a:ext cx="0" cy="1447920"/>
          </a:xfrm>
          <a:prstGeom prst="line">
            <a:avLst/>
          </a:prstGeom>
          <a:ln w="28440">
            <a:solidFill>
              <a:srgbClr val="46363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 </a:t>
            </a:r>
            <a:br>
              <a:rPr sz="4400"/>
            </a:br>
            <a:r>
              <a:rPr b="0" i="1" lang="zh-CN" sz="44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0" i="1" lang="zh-CN" sz="4400" spc="-1" strike="noStrike">
                <a:solidFill>
                  <a:srgbClr val="311a60"/>
                </a:solidFill>
                <a:latin typeface="Times New Roman"/>
              </a:rPr>
              <a:t>、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本单元与七年级上册信息的关联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从内容上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从学法上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   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单元教学目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亲身体察和体验我们身边的生活中存在着各种各样的法规、守则、公约，尤其是与中学生息息相关的一些法律法规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引导学生全面、辩证地理解规则和制度是文明生活的保障，懂得在现代社会，漠视规则，就漠视生活；理解规则，才能理解生活；要过好生活，就应该用好规则这个道理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进一步用好社会调查这一极好的学习方式，进一步培养学生的实践能力，创新精神，发现问题、提出问题、分析问题、解决问题的探究学习能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11a60"/>
                </a:solidFill>
                <a:latin typeface="Times New Roman"/>
              </a:rPr>
              <a:t>、在以“规则”为核心的参与活动和探究学习的过程中逐步形成守法守则的意识，逐步增强学生的社会责任感，做有责任心的社会主人，逐步提高学生的参与意识和人文素养，为社会，为学校，为家庭，为他人为自己做力所能及的事情，如行使参与监督权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       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材特点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生活为基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探究为主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知行为索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实践为导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案例为载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图片为缀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参与为轴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11a60"/>
                </a:solidFill>
                <a:latin typeface="Times New Roman"/>
              </a:rPr>
              <a:t>、法德为盟</a:t>
            </a:r>
            <a:r>
              <a:rPr b="0" lang="zh-CN" sz="3200" spc="-1" strike="noStrike">
                <a:solidFill>
                  <a:srgbClr val="311a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       </a:t>
            </a:r>
            <a:r>
              <a:rPr b="1" i="1" lang="zh-CN" sz="4400" spc="-1" strike="noStrike">
                <a:solidFill>
                  <a:srgbClr val="311a60"/>
                </a:solidFill>
                <a:latin typeface="Times New Roman"/>
              </a:rPr>
              <a:t>教学建议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教材处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第一课“没有规矩，不成方圆”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1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打破常规，重组教材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2</a:t>
            </a:r>
            <a:r>
              <a:rPr b="0" i="1" lang="zh-CN" sz="3200" spc="-1" strike="noStrike">
                <a:solidFill>
                  <a:srgbClr val="311a60"/>
                </a:solidFill>
                <a:latin typeface="Times New Roman"/>
              </a:rPr>
              <a:t>、教材案例有选择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286000"/>
            <a:ext cx="228600" cy="838080"/>
          </a:xfrm>
          <a:custGeom>
            <a:avLst/>
            <a:gdLst>
              <a:gd name="textAreaLeft" fmla="*/ 94320 w 228600"/>
              <a:gd name="textAreaRight" fmla="*/ 134280 w 228600"/>
              <a:gd name="textAreaTop" fmla="*/ 345240 h 838080"/>
              <a:gd name="textAreaBottom" fmla="*/ 492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9dbd3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1:59:33Z</dcterms:created>
  <dc:creator>zxwk</dc:creator>
  <dc:description/>
  <dc:language>en-US</dc:language>
  <cp:lastModifiedBy>ghl</cp:lastModifiedBy>
  <dcterms:modified xsi:type="dcterms:W3CDTF">2003-12-26T03:41:36Z</dcterms:modified>
  <cp:revision>89</cp:revision>
  <dc:subject/>
  <dc:title>  第七单元    社会生活的规则 </dc:title>
</cp:coreProperties>
</file>