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90D-93BA-4EF6-AA33-EFAD79C0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12F-26B2-4F88-88F6-FAE6358E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33D-2D11-4805-BCEE-963FA9F0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BA73-DDDF-421D-A599-357B45E9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A3E-8A89-4C73-9208-C5F0B37B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231-0FF3-4C16-B24E-075F74B0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D59-AFFB-4368-B821-16A43717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F2F-0B1F-4BED-8B26-2E0A235A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A8B-475C-4F20-837A-230381C4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8E8-28FB-4527-97CE-E0126FF0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DF2-2CBB-4F05-B874-FBAECAB7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C2E9-C44E-46C0-95F5-1B04F718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A2B7-A3A9-4D73-8B72-4D16C4EC78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002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宋体"/>
              </a:rPr>
              <a:t>树立新意识   构建新课堂</a:t>
            </a:r>
            <a:r>
              <a:rPr b="0" lang="zh-CN" sz="4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4956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温岭市第四中学        周辉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对知识的综合概括实现理论与理论的综合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知识与现实生活的综合联系，实现理论与现实的综合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知识与方法的综合渗透，实现理论与过程方法的综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905120"/>
            <a:ext cx="5335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819520"/>
            <a:ext cx="5335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4343400"/>
            <a:ext cx="5331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对知识的综合概括中，教师应辅导学生对所学的知识作小结，并能把相关的知识联系在一起，弄清知识间的相互联系，画出知识图表，以便及时系统巩固，抓住关键，强化重点，培养学生的综合联系和概括能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429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知识与现实生活的综合联系中，教师应注重指导学生从生活现实中获取知识，并能运用所学的知识解决现实问题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353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知识与方法的综合渗透中，教师应尽力根据学生的学习状况，教会学生发现问题、分析问题、解决问题、获取知识的方法，并能在知识的学习过程中创造更多适合自身学习的学习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228600" cy="3049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3429000"/>
            <a:ext cx="228600" cy="3049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800600"/>
            <a:ext cx="228600" cy="30492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6440" y="249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教师的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四、树立方法意识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472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指导学生学会比较分析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962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指导学生学会阅读质疑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5486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指导学生学会综合联系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1905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带着知识走向学生，授人以鱼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5909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带着学生走向知识，授人以渔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五、树立评判意识</a:t>
            </a: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评就是自己评价自己，互判就是同学之间的互相评判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971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7680"/>
                <a:tab algn="l" pos="3086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自评的内容可以从以下方面入手：在知识方面，通过学习，学到了哪些知识，有哪些收获和提高；在能力上，学到了哪些整合获取知识，小组讨论合作的技巧；在态度上，形成了什么态度，或想法上有何转变；在学法上，学会了哪些方法。互判的内容为同学在课堂的表现，同学在课堂上表现的优点和弱点。自判互判可以采用书面交流和当堂交流的形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7680"/>
                <a:tab algn="l" pos="308628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16765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促学生正确认识自己，发现优点，鼓起信心，相互学习，共同前进，有利于增强学生的参与意识，提高学生的鉴别、判断能力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、树立主体意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2787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、树立综合意识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1676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二、树立问题意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733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四、树立方法意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7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五、树立评判意识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、树立主体意识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1600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现代主体教学理论认为：学生不是被动接受知识的容器，而是主动参与学习的主体，教学过程实际上就是引导学生探究发现的过程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38862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满堂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380988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满堂问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感悟身边、揭示课题  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联系阅读、主动提问  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互动解决、综合联系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自评互判、深化主题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3928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学教模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树立学生的主体参与意识是否淡化了教师的作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438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传统的课堂教学，教师控制着课堂，教师控制着整个教学进程，教学过程中的课题揭示，问题设计，问题解决，课堂小节，练习设计都由教师控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1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新课堂教学中，学生成为课堂的主人，课题由学生揭示、新知由学生发现、问题由学生提出、过程让学生参与、疑难由学生解决、内容让学生概括、教学让学生评判、主题让学生升华，学生影响和决定了整个教学进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19051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课前应作好充分准备，包括资料的收集、话题的选择、活动方式的确定以及多媒体课件的制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342900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课堂教学有预见性、课前能预测出学生将会出现的情况及对策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46483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努力提高自身驽驭课堂教学的能力，对课堂教学中出现的不可遇见的问题，要能随机应变，机智灵活地处理问题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教师的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53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二、树立问题意识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7524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没有大胆的猜想，就没有伟大的科学”，“没有问题的学生不是好学生”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42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教师提出问题——学生分析问题——师生共同解决问题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914400" y="4495680"/>
            <a:ext cx="1028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教师创设情境→学生提出问题→学生讨论解决问题→发现更多的问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                            ↑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Times New Roman"/>
              </a:rPr>
              <a:t>　　　　　　　　　　　　　　　　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教师的作用</a:t>
            </a:r>
            <a:br>
              <a:rPr sz="44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制造氛围，创造良好的教学心理环境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849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织教学，展示材料，创设情境，引导学生质疑问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3809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教会学生提问的方法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4800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疑而生疑、生疑而思疑、思疑而破疑，破疑再生疑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、树立综合意识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22255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从社会学科自身特点看，社会学科是一门综合性学科，具有综合性的特点，与社会现实生活和学生的学习生活实际联系较为密切，综合性不仅在于对相关人文社会学科知识的综合，还有对其基本方法和技能的综合；不仅是对历史发展过程和现实社会问题的综合，还体现在对分析、认识某个事件或现象的角度的综合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00:23:19Z</dcterms:created>
  <dc:creator>语文组4</dc:creator>
  <dc:description/>
  <dc:language>en-US</dc:language>
  <cp:lastModifiedBy>语文组4</cp:lastModifiedBy>
  <dcterms:modified xsi:type="dcterms:W3CDTF">2003-12-24T04:23:43Z</dcterms:modified>
  <cp:revision>19</cp:revision>
  <dc:subject/>
  <dc:title>PowerPoint 演示文稿</dc:title>
</cp:coreProperties>
</file>