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6A9-ED6B-4107-B175-7C38189E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9CE-900F-4687-9216-B7696D9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23D-4321-4497-BFAF-3603DCF4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DF9-A94D-48AF-800E-A2B17962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D13-E493-4FF7-96D2-3D5DFB89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D93-1C6C-4BBB-8C0A-9816F41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69C-08AB-4476-9FB9-F3A1CF69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C9B-4814-4273-9FE6-4CD4AF5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A72-3B15-4398-863D-2DC7C1B2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A42-D52C-483A-91B9-7CA7603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8CE-0E01-464B-94C3-0C3E1B0B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778-E13A-46E4-9665-3BC5651E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A82-96EB-4ED1-92D1-09A1EDE09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ff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371600" y="1143000"/>
            <a:ext cx="6400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走向富足的文明生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401560" y="459756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宁波万里国际学校中学        雒军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18440" y="27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一课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2320" y="106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1920" y="18288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教师设计问题，引导学生讲述，培养学生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表达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91920" y="304812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学生讨论或辩论，培养学生思维的深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和敏捷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484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协助学生一起调查，培养学生的动手能力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关注社会关注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91920" y="54100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收集俗语，分组比赛或组织演讲比赛，培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的竞争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61280" y="576360"/>
            <a:ext cx="321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第一课   永远面对的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90360" y="2610000"/>
            <a:ext cx="10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注重各种调查、模拟活动的操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93200" y="35812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消费方面，对于学生的选择，教师不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作任何价值判断，学生在讨论过程中能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理有据，自圆其说，能够选择合理的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就应看作是达到了教学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8560" y="15238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438280"/>
            <a:ext cx="7772400" cy="3353040"/>
            <a:chOff x="533520" y="2438280"/>
            <a:chExt cx="7772400" cy="3353040"/>
          </a:xfrm>
        </p:grpSpPr>
        <p:sp>
          <p:nvSpPr>
            <p:cNvPr id="129" name=""/>
            <p:cNvSpPr/>
            <p:nvPr/>
          </p:nvSpPr>
          <p:spPr>
            <a:xfrm>
              <a:off x="533520" y="3733920"/>
              <a:ext cx="365760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创业有方，信用无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7080" y="2514600"/>
              <a:ext cx="457200" cy="320040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00600" y="2438280"/>
              <a:ext cx="350532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爸爸成功创业的学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0600" y="3733920"/>
              <a:ext cx="342900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叔叔把握机会的启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5105520"/>
              <a:ext cx="335304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信用是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3120" y="45115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（创业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74240" y="58104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二课    创业有方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3840" y="13669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26520" y="2351160"/>
            <a:ext cx="505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重点是诚信，诚信是中华民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传统美德，诚信不仅对于创业及经营活动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着重要的意义，而且对于整个社会都有着非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常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6200" y="451476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难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的难点是创业。对于学生来说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创业是一个比较遥远的话题，但同时又是同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以后的生活密切相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3000" y="1401840"/>
            <a:ext cx="6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0960" y="2305080"/>
            <a:ext cx="9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请进来，走出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920" y="32288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角色扮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920" y="42958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故事比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7520" y="52862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编辑手抄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28280" y="6094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二课    创业有方     信用无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0200" y="1647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48880" y="2438280"/>
            <a:ext cx="5642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教学的评价中，课本所涉及的经济学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概念不应作为评价的重点，应注重各种模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的操作。教师提供相关素材，由学生模拟使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财产增值的投资过程，并设想作为经营者要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得成功应考虑什么因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4920" y="14954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0720" y="1828800"/>
            <a:ext cx="7848360" cy="4343400"/>
            <a:chOff x="990720" y="1828800"/>
            <a:chExt cx="7848360" cy="4343400"/>
          </a:xfrm>
        </p:grpSpPr>
        <p:sp>
          <p:nvSpPr>
            <p:cNvPr id="151" name=""/>
            <p:cNvSpPr/>
            <p:nvPr/>
          </p:nvSpPr>
          <p:spPr>
            <a:xfrm>
              <a:off x="3352680" y="3581280"/>
              <a:ext cx="327672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我们都是当家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6720" y="1828800"/>
              <a:ext cx="3429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为国为家     人人有责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5486400"/>
              <a:ext cx="3276360" cy="685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（小家）妈妈的帐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5486400"/>
              <a:ext cx="335268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国家的帐本（大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5715000"/>
              <a:ext cx="914400" cy="304920"/>
            </a:xfrm>
            <a:prstGeom prst="rightArrow">
              <a:avLst>
                <a:gd name="adj1" fmla="val 50000"/>
                <a:gd name="adj2" fmla="val 74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43434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4267080"/>
              <a:ext cx="304560" cy="990720"/>
            </a:xfrm>
            <a:prstGeom prst="upArrow">
              <a:avLst>
                <a:gd name="adj1" fmla="val 50000"/>
                <a:gd name="adj2" fmla="val 81324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90520" y="436068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6640" y="4332240"/>
              <a:ext cx="606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理财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2514600"/>
              <a:ext cx="304920" cy="990720"/>
            </a:xfrm>
            <a:prstGeom prst="upArrow">
              <a:avLst>
                <a:gd name="adj1" fmla="val 50000"/>
                <a:gd name="adj2" fmla="val 8122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39080" y="2757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（税收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31160" y="60948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93040" y="159552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2895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家庭理财，怎样合理地安排收入支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160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难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07640" y="4792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国家的财政预算及其对社会发展所起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77920" y="243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重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huacao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1800" y="22860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2560" y="30780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调查访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1200" y="39924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组织记者招待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3400" y="4830840"/>
            <a:ext cx="63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为家庭做预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21600" y="13111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5335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hujuan" descr=""/>
          <p:cNvPicPr/>
          <p:nvPr/>
        </p:nvPicPr>
        <p:blipFill>
          <a:blip r:embed="rId1"/>
          <a:stretch/>
        </p:blipFill>
        <p:spPr>
          <a:xfrm>
            <a:off x="-1676520" y="-380880"/>
            <a:ext cx="11125440" cy="7467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30560" y="8827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三课    为国为家  人人有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0200" y="17827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四、评价建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9640" y="2475000"/>
            <a:ext cx="48502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本节所涉及的经济学概念较多，在评价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过程中，不需要学生做理论上的概括，只要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学生在描述具体的事实时能够恰当运用既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评价还应侧重于学生探讨或调查访问的过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引导学生在具体情境中理解与家庭理财和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理财相关的基础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51240" y="223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8600" y="944640"/>
            <a:ext cx="21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一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程标准要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167652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知道在日常生活中个人消费行为要受到许多因素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7520" y="228600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观察和了解我们需要的商品和服务是如何供给的，感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市场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7520" y="3292560"/>
            <a:ext cx="54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模拟简单的投资活动，感受投资虽可以增加财富，同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又具有一定的风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2720" y="42670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采用模拟方式，体会从事某种经营活动需要考虑的因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67680" y="487692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根据个人家庭理财经验，领会合理安排收入和支出的意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7360" y="5502240"/>
            <a:ext cx="12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—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列举个人储蓄、保险、纳税、贷款等经济行为，领会它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保障和提高人们生活质量的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3760" y="5335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86200" y="1471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93040" y="3778200"/>
            <a:ext cx="23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重点与难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0280" y="2133720"/>
            <a:ext cx="5301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课以前三课的内容为基础，又是前三课内容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华和运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42040" y="475308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重点：本课的重点是探讨文明的生活怎么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99000" y="565776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难点：不同的生活方式和消费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huaca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7800" y="1447920"/>
            <a:ext cx="43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综合探究八   做文明生活的小管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89120" y="25146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活动建议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50040" y="33764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四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38880" y="3975120"/>
            <a:ext cx="4234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课是综合探究课，评价的重点应放在调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和讨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7080" y="921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二）单元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13440" y="1263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结合日常的生活经验，初步了解消费和市场的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用，分析影响消费的多种因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92000" y="26352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通过分析不同的案例，明确善于把握机会才能在创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投资中获得成功，懂得在投资活动中要注意规避风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50360" y="40528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体会信用对个人创业成功及社会健康发展的意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81760" y="51498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学会根据自己的家庭收入选择不同的投资方式，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理安排支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7621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理解国家的收入与支出对社会生活的作用，逐步树立自觉纳税的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40280" y="251460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在辩论学习的过程中，学会根据具体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行预算，合理消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95560" y="41911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能够尊重、理解不同于自己的生活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7200" y="3207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单元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1523880"/>
            <a:ext cx="8382240" cy="3909600"/>
            <a:chOff x="380880" y="1523880"/>
            <a:chExt cx="8382240" cy="3909600"/>
          </a:xfrm>
        </p:grpSpPr>
        <p:sp>
          <p:nvSpPr>
            <p:cNvPr id="62" name=""/>
            <p:cNvSpPr/>
            <p:nvPr/>
          </p:nvSpPr>
          <p:spPr>
            <a:xfrm rot="14024400">
              <a:off x="5562720" y="3733560"/>
              <a:ext cx="761760" cy="30456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132000">
              <a:off x="2666880" y="3733560"/>
              <a:ext cx="761760" cy="304920"/>
            </a:xfrm>
            <a:prstGeom prst="rightArrow">
              <a:avLst>
                <a:gd name="adj1" fmla="val 50000"/>
                <a:gd name="adj2" fmla="val 62456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0880" y="1523880"/>
              <a:ext cx="8382240" cy="3909600"/>
              <a:chOff x="380880" y="1523880"/>
              <a:chExt cx="8382240" cy="3909600"/>
            </a:xfrm>
          </p:grpSpPr>
          <p:sp>
            <p:nvSpPr>
              <p:cNvPr id="65" name=""/>
              <p:cNvSpPr/>
              <p:nvPr/>
            </p:nvSpPr>
            <p:spPr>
              <a:xfrm>
                <a:off x="2895480" y="2819520"/>
                <a:ext cx="2895840" cy="6858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走向富足的文明生活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0880" y="1600200"/>
                <a:ext cx="26672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永远面对的选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808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创业有方，信用无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91320" y="1523880"/>
                <a:ext cx="2819160" cy="53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为国为家，人人有责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7280" y="4267080"/>
                <a:ext cx="2895840" cy="457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做文明生活的小管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23280" y="20019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071000" y="48211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投资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52480" y="22305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理财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04920" y="4973760"/>
                <a:ext cx="127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（综合探究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3295800">
                <a:off x="2819160" y="2286000"/>
                <a:ext cx="762120" cy="304560"/>
              </a:xfrm>
              <a:prstGeom prst="rightArrow">
                <a:avLst>
                  <a:gd name="adj1" fmla="val 50000"/>
                  <a:gd name="adj2" fmla="val 62559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7786800">
                <a:off x="5257080" y="2285640"/>
                <a:ext cx="762120" cy="304920"/>
              </a:xfrm>
              <a:prstGeom prst="rightArrow">
                <a:avLst>
                  <a:gd name="adj1" fmla="val 50000"/>
                  <a:gd name="adj2" fmla="val 6248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352680" y="4135320"/>
                <a:ext cx="2438640" cy="459720"/>
                <a:chOff x="3352680" y="4135320"/>
                <a:chExt cx="2438640" cy="45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352680" y="4572000"/>
                  <a:ext cx="243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862080" y="41353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200400" y="1523880"/>
                <a:ext cx="2438280" cy="459720"/>
                <a:chOff x="3200400" y="1523880"/>
                <a:chExt cx="2438280" cy="45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200400" y="1960560"/>
                  <a:ext cx="2438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09440" y="15238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（选择和规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8080" y="396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教学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58880" y="1211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一）课时安排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50720" y="1249200"/>
            <a:ext cx="382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建议安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——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7080" y="2133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（二）教学中应注意的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8960" y="2990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本单元的教学应基于学生的生活，强调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主动参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5800" y="4221000"/>
            <a:ext cx="8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学生的活动为主，突出能力目标的主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4600" y="5006880"/>
            <a:ext cx="66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立足于全体学生的发展，处理好两个方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30160" y="3967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、评价建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94080" y="18892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重各种调查、模拟活动的操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85800" y="3076560"/>
            <a:ext cx="7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对于经济学方面的概念，在描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实时能够恰当的运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01320" y="3808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  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51240" y="1214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一、教材分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66680" y="2494080"/>
            <a:ext cx="6705720" cy="2916000"/>
            <a:chOff x="1066680" y="2494080"/>
            <a:chExt cx="6705720" cy="2916000"/>
          </a:xfrm>
        </p:grpSpPr>
        <p:sp>
          <p:nvSpPr>
            <p:cNvPr id="95" name=""/>
            <p:cNvSpPr/>
            <p:nvPr/>
          </p:nvSpPr>
          <p:spPr>
            <a:xfrm>
              <a:off x="4267080" y="4647960"/>
              <a:ext cx="350532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066680" y="2494080"/>
              <a:ext cx="6705720" cy="2916000"/>
              <a:chOff x="1066680" y="2494080"/>
              <a:chExt cx="6705720" cy="2916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066680" y="3809880"/>
                <a:ext cx="2590920" cy="609840"/>
                <a:chOff x="1066680" y="3809880"/>
                <a:chExt cx="2590920" cy="6098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66680" y="3809880"/>
                  <a:ext cx="2590920" cy="609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719000" y="3906720"/>
                  <a:ext cx="1460880" cy="4597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永远面对的选择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3733920" y="2819520"/>
                <a:ext cx="228600" cy="25905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67320 h 2590560"/>
                  <a:gd name="textAreaBottom" fmla="*/ 2523240 h 259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4191120" y="3733920"/>
                <a:ext cx="3581280" cy="609480"/>
                <a:chOff x="4191120" y="3733920"/>
                <a:chExt cx="3581280" cy="6094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191120" y="3733920"/>
                  <a:ext cx="358128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45880" y="3851280"/>
                  <a:ext cx="2582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合理的购物方式   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063520" y="433548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3300"/>
                    </a:solidFill>
                    <a:latin typeface="Times New Roman"/>
                  </a:rPr>
                  <a:t>（主线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114800" y="2494080"/>
                <a:ext cx="3657600" cy="609480"/>
                <a:chOff x="4114800" y="2494080"/>
                <a:chExt cx="3657600" cy="6094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114800" y="2494080"/>
                  <a:ext cx="3657600" cy="6094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554360" y="259092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生活从哪里开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12920" y="2590920"/>
                  <a:ext cx="912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消费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27560" y="4800600"/>
                <a:ext cx="321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时尚与未来      （消费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72960" y="958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、重点与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560680"/>
            <a:ext cx="80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让学生在生活实践中感受消费和市场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用，根据学生及其家庭的实际能力选择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理的购物方式并在消费时注意保护环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7920" y="49528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学生做具体的调查，了解影响人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购物的因素以及如何看待消费方式的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17760" y="30492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第一课   永远面对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9720" y="1797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重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6120" y="4159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本课难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3:28:39Z</dcterms:created>
  <dc:creator>NAME</dc:creator>
  <dc:description/>
  <dc:language>en-US</dc:language>
  <cp:lastModifiedBy>ic1</cp:lastModifiedBy>
  <dcterms:modified xsi:type="dcterms:W3CDTF">2003-12-27T14:20:37Z</dcterms:modified>
  <cp:revision>17</cp:revision>
  <dc:subject/>
  <dc:title>PowerPoint 演示文稿</dc:title>
</cp:coreProperties>
</file>