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3D9-1F17-4ABE-9826-CDBA201A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5B8-6896-4300-B3D7-B2FBB62D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541-7CD9-4D5C-9B9E-4853629B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D77-3200-4ED1-B7AB-88EA40BA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112-DFB0-4F27-84BA-73B027BE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324-9E8B-4481-A5B6-E3DA3774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AC5-6996-4F69-B9BC-256F5B53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483-2ECC-47E5-A0C1-E0AB07EB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69B-0923-4427-9059-DC49CCA0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436-ED1B-4233-A2F4-C16D801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4C3-7EC4-4BD0-8CEE-0158277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1CB-A113-4A5C-857B-E787F831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845B-3813-4FAD-AC0F-1AA6FABF15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  </a:t>
            </a:r>
            <a:r>
              <a:rPr b="1" lang="zh-CN" sz="12000" spc="-1" strike="noStrike">
                <a:solidFill>
                  <a:srgbClr val="ff0066"/>
                </a:solidFill>
                <a:latin typeface="华文行楷"/>
                <a:ea typeface="华文行楷"/>
              </a:rPr>
              <a:t>走进社会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历史与社会》七年级下册第六单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502920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临安锦城四中   金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四、本单元教学建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74320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 </a:t>
            </a:r>
            <a:r>
              <a:rPr b="1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联系生活教学策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11480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▲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情感教学策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447920"/>
            <a:ext cx="83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  </a:t>
            </a:r>
            <a:r>
              <a:rPr b="1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根据课型选择教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76212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领着学生走进社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362320"/>
            <a:ext cx="80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学生带着我融入社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396252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师生共鸣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45600" y="685800"/>
            <a:ext cx="1642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生活的世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17080" y="457200"/>
            <a:ext cx="1826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个人和社会生活的时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42640" y="160020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8195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57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533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219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在社区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990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类共同生活的世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华各族人民的家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具特色的区域生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社会生活的变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32920" y="3581280"/>
            <a:ext cx="6182280" cy="2593440"/>
            <a:chOff x="1132920" y="3581280"/>
            <a:chExt cx="6182280" cy="2593440"/>
          </a:xfrm>
        </p:grpSpPr>
        <p:sp>
          <p:nvSpPr>
            <p:cNvPr id="60" name=""/>
            <p:cNvSpPr/>
            <p:nvPr/>
          </p:nvSpPr>
          <p:spPr>
            <a:xfrm>
              <a:off x="1132920" y="3581280"/>
              <a:ext cx="182628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个人和社会生活的领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7180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2680" y="388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4572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5257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52680" y="38862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52680" y="5943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62520" y="36576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走进社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86200" y="43434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生活的规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86200" y="50292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走向富足的文明生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57150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丰富多彩的精神生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971800" y="175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477120" y="380880"/>
            <a:ext cx="1844640" cy="2743200"/>
            <a:chOff x="6477120" y="380880"/>
            <a:chExt cx="1844640" cy="2743200"/>
          </a:xfrm>
        </p:grpSpPr>
        <p:sp>
          <p:nvSpPr>
            <p:cNvPr id="73" name=""/>
            <p:cNvSpPr/>
            <p:nvPr/>
          </p:nvSpPr>
          <p:spPr>
            <a:xfrm>
              <a:off x="6705720" y="45720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477120" y="1905120"/>
              <a:ext cx="12189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00760" y="380880"/>
              <a:ext cx="152100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66"/>
                  </a:solidFill>
                  <a:latin typeface="Times New Roman"/>
                  <a:ea typeface="华文行楷"/>
                </a:rPr>
                <a:t>人地关系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477120" y="3200400"/>
            <a:ext cx="1784160" cy="3657600"/>
            <a:chOff x="6477120" y="3200400"/>
            <a:chExt cx="1784160" cy="3657600"/>
          </a:xfrm>
        </p:grpSpPr>
        <p:sp>
          <p:nvSpPr>
            <p:cNvPr id="77" name=""/>
            <p:cNvSpPr/>
            <p:nvPr/>
          </p:nvSpPr>
          <p:spPr>
            <a:xfrm>
              <a:off x="6477120" y="396252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705720" y="4876920"/>
              <a:ext cx="914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61960" y="3200400"/>
              <a:ext cx="139932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  <a:ea typeface="华文行楷"/>
                </a:rPr>
                <a:t>人与社会关系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09680" y="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主 要 内 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371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教材内容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51460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教材结构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8769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单元教学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657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●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对本单元教学后的感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3049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、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本单元 教材内容特点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152388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▲ </a:t>
            </a: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体现</a:t>
            </a:r>
            <a:r>
              <a:rPr b="0" lang="zh-CN" sz="6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现实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89548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 </a:t>
            </a:r>
            <a:r>
              <a:rPr b="0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体现</a:t>
            </a:r>
            <a:r>
              <a:rPr b="0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情感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191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▲</a:t>
            </a:r>
            <a:r>
              <a:rPr b="0" lang="zh-CN" sz="7200" spc="-1" strike="noStrike">
                <a:solidFill>
                  <a:srgbClr val="3333cc"/>
                </a:solidFill>
                <a:latin typeface="华文行楷"/>
                <a:ea typeface="华文行楷"/>
              </a:rPr>
              <a:t> </a:t>
            </a:r>
            <a:r>
              <a:rPr b="0" lang="zh-CN" sz="6600" spc="-1" strike="noStrike">
                <a:solidFill>
                  <a:srgbClr val="3333cc"/>
                </a:solidFill>
                <a:latin typeface="华文行楷"/>
                <a:ea typeface="华文行楷"/>
              </a:rPr>
              <a:t>体现</a:t>
            </a:r>
            <a:r>
              <a:rPr b="0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价值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228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二、本单元教材结构分析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2438280"/>
            <a:ext cx="1600200" cy="1800720"/>
            <a:chOff x="304920" y="2438280"/>
            <a:chExt cx="1600200" cy="1800720"/>
          </a:xfrm>
        </p:grpSpPr>
        <p:sp>
          <p:nvSpPr>
            <p:cNvPr id="91" name=""/>
            <p:cNvSpPr/>
            <p:nvPr/>
          </p:nvSpPr>
          <p:spPr>
            <a:xfrm>
              <a:off x="304920" y="304776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个人生活在社会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43000" y="2438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86000" y="2362320"/>
            <a:ext cx="1752480" cy="1877040"/>
            <a:chOff x="2286000" y="2362320"/>
            <a:chExt cx="1752480" cy="1877040"/>
          </a:xfrm>
        </p:grpSpPr>
        <p:sp>
          <p:nvSpPr>
            <p:cNvPr id="94" name=""/>
            <p:cNvSpPr/>
            <p:nvPr/>
          </p:nvSpPr>
          <p:spPr>
            <a:xfrm>
              <a:off x="2286000" y="304812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社会是我们共同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00400" y="236232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038480" y="2362320"/>
            <a:ext cx="2895840" cy="1953000"/>
            <a:chOff x="4038480" y="2362320"/>
            <a:chExt cx="2895840" cy="1953000"/>
          </a:xfrm>
        </p:grpSpPr>
        <p:sp>
          <p:nvSpPr>
            <p:cNvPr id="97" name=""/>
            <p:cNvSpPr/>
            <p:nvPr/>
          </p:nvSpPr>
          <p:spPr>
            <a:xfrm>
              <a:off x="4038480" y="3124080"/>
              <a:ext cx="28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我们在 社会舞台上扮演不同的角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8148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629400" y="2362320"/>
            <a:ext cx="2514600" cy="1953000"/>
            <a:chOff x="6629400" y="2362320"/>
            <a:chExt cx="2514600" cy="1953000"/>
          </a:xfrm>
        </p:grpSpPr>
        <p:sp>
          <p:nvSpPr>
            <p:cNvPr id="100" name=""/>
            <p:cNvSpPr/>
            <p:nvPr/>
          </p:nvSpPr>
          <p:spPr>
            <a:xfrm>
              <a:off x="6629400" y="3124080"/>
              <a:ext cx="251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3cc"/>
                  </a:solidFill>
                  <a:latin typeface="Times New Roman"/>
                  <a:ea typeface="华文行楷"/>
                </a:rPr>
                <a:t>我们在社会舞台上受传媒影响最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2362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14400" y="4921200"/>
            <a:ext cx="6858000" cy="1937520"/>
            <a:chOff x="914400" y="4921200"/>
            <a:chExt cx="6858000" cy="1937520"/>
          </a:xfrm>
        </p:grpSpPr>
        <p:sp>
          <p:nvSpPr>
            <p:cNvPr id="103" name=""/>
            <p:cNvSpPr/>
            <p:nvPr/>
          </p:nvSpPr>
          <p:spPr>
            <a:xfrm>
              <a:off x="77724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4400" y="55306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144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29200" y="4921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14800" y="5530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759280"/>
              <a:ext cx="4191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66"/>
                  </a:solidFill>
                  <a:latin typeface="Times New Roman"/>
                  <a:ea typeface="华文行楷"/>
                </a:rPr>
                <a:t>走进社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1371600"/>
            <a:ext cx="8153280" cy="1068840"/>
            <a:chOff x="457200" y="1371600"/>
            <a:chExt cx="8153280" cy="1068840"/>
          </a:xfrm>
        </p:grpSpPr>
        <p:grpSp>
          <p:nvGrpSpPr>
            <p:cNvPr id="111" name=""/>
            <p:cNvGrpSpPr/>
            <p:nvPr/>
          </p:nvGrpSpPr>
          <p:grpSpPr>
            <a:xfrm>
              <a:off x="457200" y="1371600"/>
              <a:ext cx="1905120" cy="609480"/>
              <a:chOff x="457200" y="1371600"/>
              <a:chExt cx="1905120" cy="609480"/>
            </a:xfrm>
          </p:grpSpPr>
          <p:sp>
            <p:nvSpPr>
              <p:cNvPr id="112" name=""/>
              <p:cNvSpPr/>
              <p:nvPr/>
            </p:nvSpPr>
            <p:spPr>
              <a:xfrm>
                <a:off x="457200" y="1371600"/>
                <a:ext cx="1676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在社会中成长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05120" y="1905120"/>
                <a:ext cx="457200" cy="75960"/>
              </a:xfrm>
              <a:prstGeom prst="rightArrow">
                <a:avLst>
                  <a:gd name="adj1" fmla="val 50000"/>
                  <a:gd name="adj2" fmla="val 15047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629400" y="13716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大众传媒的影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2514600" y="1371600"/>
              <a:ext cx="1981080" cy="1068840"/>
              <a:chOff x="2514600" y="1371600"/>
              <a:chExt cx="1981080" cy="1068840"/>
            </a:xfrm>
          </p:grpSpPr>
          <p:sp>
            <p:nvSpPr>
              <p:cNvPr id="116" name=""/>
              <p:cNvSpPr/>
              <p:nvPr/>
            </p:nvSpPr>
            <p:spPr>
              <a:xfrm>
                <a:off x="4038480" y="1905120"/>
                <a:ext cx="457200" cy="75960"/>
              </a:xfrm>
              <a:prstGeom prst="rightArrow">
                <a:avLst>
                  <a:gd name="adj1" fmla="val 50000"/>
                  <a:gd name="adj2" fmla="val 15047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14600" y="1371600"/>
                <a:ext cx="1523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你我他的世界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419720" y="1371600"/>
              <a:ext cx="2209680" cy="609480"/>
              <a:chOff x="4419720" y="1371600"/>
              <a:chExt cx="2209680" cy="60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6172200" y="1905120"/>
                <a:ext cx="457200" cy="75960"/>
              </a:xfrm>
              <a:prstGeom prst="rightArrow">
                <a:avLst>
                  <a:gd name="adj1" fmla="val 50000"/>
                  <a:gd name="adj2" fmla="val 15047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19720" y="1371600"/>
                <a:ext cx="1904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在社会的舞台上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3808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三、我对本单元教学后的感受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1752480"/>
            <a:ext cx="9144000" cy="3694680"/>
            <a:chOff x="0" y="1752480"/>
            <a:chExt cx="9144000" cy="3694680"/>
          </a:xfrm>
        </p:grpSpPr>
        <p:sp>
          <p:nvSpPr>
            <p:cNvPr id="123" name=""/>
            <p:cNvSpPr/>
            <p:nvPr/>
          </p:nvSpPr>
          <p:spPr>
            <a:xfrm>
              <a:off x="2666880" y="1752480"/>
              <a:ext cx="358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案例</a:t>
              </a:r>
              <a:r>
                <a:rPr b="0" lang="zh-CN" sz="72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1</a:t>
              </a:r>
              <a:r>
                <a:rPr b="0" lang="zh-CN" sz="72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    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3048120"/>
              <a:ext cx="9144000" cy="23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《社会舞台上的不同角色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M_0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RX_021" descr=""/>
          <p:cNvPicPr/>
          <p:nvPr/>
        </p:nvPicPr>
        <p:blipFill>
          <a:blip r:embed="rId3"/>
          <a:stretch/>
        </p:blipFill>
        <p:spPr>
          <a:xfrm>
            <a:off x="3809880" y="2362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05320" y="1447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990720"/>
            <a:ext cx="17528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60020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1676520"/>
            <a:ext cx="16765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666880"/>
            <a:ext cx="182880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74320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3886200"/>
            <a:ext cx="16765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962520"/>
            <a:ext cx="17524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114800"/>
            <a:ext cx="182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说一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1814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我的角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685800"/>
            <a:ext cx="8839080" cy="4614840"/>
            <a:chOff x="0" y="685800"/>
            <a:chExt cx="8839080" cy="4614840"/>
          </a:xfrm>
        </p:grpSpPr>
        <p:sp>
          <p:nvSpPr>
            <p:cNvPr id="139" name=""/>
            <p:cNvSpPr/>
            <p:nvPr/>
          </p:nvSpPr>
          <p:spPr>
            <a:xfrm>
              <a:off x="2666880" y="685800"/>
              <a:ext cx="4419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案例</a:t>
              </a:r>
              <a:r>
                <a:rPr b="1" lang="zh-CN" sz="6600" spc="-1" strike="noStrike">
                  <a:solidFill>
                    <a:srgbClr val="ff0066"/>
                  </a:solidFill>
                  <a:latin typeface="华文行楷"/>
                  <a:ea typeface="华文行楷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2133720"/>
              <a:ext cx="883908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3333cc"/>
                  </a:solidFill>
                  <a:latin typeface="华文行楷"/>
                  <a:ea typeface="华文行楷"/>
                </a:rPr>
                <a:t>《大众传媒的影响》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M_02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辩一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05740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电视对青少年学生的影响利大于弊还是弊大于利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RX_021" descr=""/>
          <p:cNvPicPr/>
          <p:nvPr/>
        </p:nvPicPr>
        <p:blipFill>
          <a:blip r:embed="rId3"/>
          <a:stretch/>
        </p:blipFill>
        <p:spPr>
          <a:xfrm>
            <a:off x="6934320" y="99072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01:00:48Z</dcterms:created>
  <dc:creator>Legend User</dc:creator>
  <dc:description/>
  <dc:language>en-US</dc:language>
  <cp:lastModifiedBy>Legend User</cp:lastModifiedBy>
  <dcterms:modified xsi:type="dcterms:W3CDTF">2003-12-26T13:37:21Z</dcterms:modified>
  <cp:revision>41</cp:revision>
  <dc:subject/>
  <dc:title>PowerPoint 演示文稿</dc:title>
</cp:coreProperties>
</file>