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7.gif" ContentType="image/gif"/>
  <Override PartName="/ppt/media/image8.gif" ContentType="image/gif"/>
  <Override PartName="/ppt/media/cashreg.wav" ContentType="audio/x-wav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92D-0ACD-47AC-90B8-9C5BBF60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C17-B3CE-4844-B5FE-31702906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C9E-F539-4A6E-9DC6-9B106E12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D70-759A-4D6C-833B-9402E0A0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11F-777C-48B3-8185-43CA871F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747-A5E9-4638-B01F-56DCD010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2AA8-1F64-4B0F-9906-EEEDDE18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9B8-F1C6-45D8-9C91-6F3E9523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9B3-8870-48FA-8DDF-F5C9E6F0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8C3-8E33-44BA-9116-4883A6BF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933-8DBD-4778-8DB8-C67C404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4D1-D3CF-44D1-9853-61F2226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F2AD-C64B-459D-A283-6FB654F0C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a2618"/>
                </a:solidFill>
                <a:latin typeface="隶书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6a2618"/>
                </a:solidFill>
                <a:latin typeface="隶书"/>
                <a:ea typeface="隶书"/>
              </a:rPr>
              <a:t>第   </a:t>
            </a:r>
            <a:r>
              <a:rPr b="1" lang="zh-CN" sz="4400" spc="-1" strike="noStrike">
                <a:solidFill>
                  <a:srgbClr val="6a2618"/>
                </a:solidFill>
                <a:latin typeface="隶书"/>
                <a:ea typeface="隶书"/>
              </a:rPr>
              <a:t>9   </a:t>
            </a:r>
            <a:r>
              <a:rPr b="1" lang="zh-CN" sz="4400" spc="-1" strike="noStrike">
                <a:solidFill>
                  <a:srgbClr val="6a2618"/>
                </a:solidFill>
                <a:latin typeface="隶书"/>
                <a:ea typeface="隶书"/>
              </a:rPr>
              <a:t>课 </a:t>
            </a:r>
            <a:br>
              <a:rPr sz="4400"/>
            </a:br>
            <a:r>
              <a:rPr b="1" lang="zh-CN" sz="3600" spc="-1" strike="noStrike">
                <a:solidFill>
                  <a:srgbClr val="6a2618"/>
                </a:solidFill>
                <a:latin typeface="隶书"/>
                <a:ea typeface="隶书"/>
              </a:rPr>
              <a:t>资本主义政治制度在欧洲大陆的扩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2506680" cy="350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3357720"/>
            <a:ext cx="4319640" cy="35002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819840" y="3357720"/>
            <a:ext cx="2324160" cy="3499920"/>
            <a:chOff x="6819840" y="3357720"/>
            <a:chExt cx="2324160" cy="349992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6819840" y="3357720"/>
              <a:ext cx="2324160" cy="34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128000" y="6425640"/>
              <a:ext cx="201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1628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帝掌握国家大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31520" y="189000"/>
            <a:ext cx="20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确立：德意志帝国宪法的颁布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7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1413000"/>
            <a:ext cx="14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9079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4648320" cy="1512720"/>
          </a:xfrm>
          <a:prstGeom prst="wedgeRoundRectCallout">
            <a:avLst>
              <a:gd name="adj1" fmla="val 38833"/>
              <a:gd name="adj2" fmla="val 66893"/>
              <a:gd name="adj3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国家元首和军队统帅。有权任免官员、召集和解散议会和决定对外政策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0"/>
            <a:ext cx="4648320" cy="2286000"/>
          </a:xfrm>
          <a:prstGeom prst="wedgeRoundRectCallout">
            <a:avLst>
              <a:gd name="adj1" fmla="val -88250"/>
              <a:gd name="adj2" fmla="val 136388"/>
              <a:gd name="adj3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联邦议会由各邦代表组成。帝国议会由成年男子选举产生，作用很小，它通过的法案必须得到联邦议会和皇帝的批准才能生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21000"/>
            <a:ext cx="7991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宰相（内阁首脑）主持内阁工作，由皇帝任命而不是议会选举产生，任期由皇帝决定，只对皇帝负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议会是立法机构（包括联邦议会和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国国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94172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规定是一个联邦制国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637000"/>
            <a:ext cx="5219640" cy="2158920"/>
          </a:xfrm>
          <a:prstGeom prst="wedgeRoundRectCallout">
            <a:avLst>
              <a:gd name="adj1" fmla="val -51092"/>
              <a:gd name="adj2" fmla="val 69337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规定帝国政府掌握了军事、外交等大权，各邦则保留了一些自治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普鲁士在帝国中占统治地位，它的国王和宰相，同时又是帝国的皇帝和宰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661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性质：保留封建残余的资产阶级宪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马克思对德意志帝国的评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34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德意志帝国是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一个以议会形式粉饰门面、混杂着封建主义残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已经受到资产阶级影响、按官僚制度组织起来、并以警察来保卫的、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军事专制制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国家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14972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马克思为什么说德意志帝国是：“以议会形式粉饰门面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5157720"/>
            <a:ext cx="777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宪法表明：皇帝和宰相权力极大；议会无实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见：民主立宪是虚，君主专制是实；容克贵族占主导地位，资产阶级则次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90680" y="15238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德国君制宪制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21880" y="2286000"/>
            <a:ext cx="323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行政权与立法权没真正分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37480" y="443376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带有浓厚的封建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3200400"/>
            <a:ext cx="5943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议会中，联邦议会（上议院）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大，帝国议会（下议院）权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德意志帝国的君主立宪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flipH="1" rot="20402400">
            <a:off x="3597840" y="299520"/>
            <a:ext cx="5621400" cy="2138760"/>
          </a:xfrm>
          <a:prstGeom prst="cloudCallout">
            <a:avLst>
              <a:gd name="adj1" fmla="val -5041"/>
              <a:gd name="adj2" fmla="val 11031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50920" y="0"/>
            <a:ext cx="2262240" cy="1662120"/>
            <a:chOff x="250920" y="0"/>
            <a:chExt cx="2262240" cy="1662120"/>
          </a:xfrm>
        </p:grpSpPr>
        <p:sp>
          <p:nvSpPr>
            <p:cNvPr id="156" name=""/>
            <p:cNvSpPr/>
            <p:nvPr/>
          </p:nvSpPr>
          <p:spPr>
            <a:xfrm>
              <a:off x="250920" y="311400"/>
              <a:ext cx="53316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2560" y="31140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6000" y="31140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47640" y="31140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79640" y="31140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395280" y="0"/>
              <a:ext cx="1066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1547640" y="671760"/>
              <a:ext cx="9223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>
            <a:off x="3922560" y="60660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如何评价德国的君主立宪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554880" y="304956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54560" y="206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进步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84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局限性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52240" y="4724280"/>
            <a:ext cx="423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是一种不彻底和不完善的代议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保留了君主制度，军国主义传统延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了资产阶级民主改革的彻底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3240" y="2708280"/>
            <a:ext cx="62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具有资产阶级性质的帝国建立起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使资本主义工业迅速发展，很快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身于资本主义强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628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6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 rot="20402400">
            <a:off x="3562200" y="549360"/>
            <a:ext cx="5131080" cy="3576960"/>
          </a:xfrm>
          <a:prstGeom prst="cloudCallout">
            <a:avLst>
              <a:gd name="adj1" fmla="val 70805"/>
              <a:gd name="adj2" fmla="val 260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4920" y="380880"/>
            <a:ext cx="2262240" cy="1662120"/>
            <a:chOff x="304920" y="380880"/>
            <a:chExt cx="2262240" cy="1662120"/>
          </a:xfrm>
        </p:grpSpPr>
        <p:sp>
          <p:nvSpPr>
            <p:cNvPr id="172" name=""/>
            <p:cNvSpPr/>
            <p:nvPr/>
          </p:nvSpPr>
          <p:spPr>
            <a:xfrm>
              <a:off x="304920" y="692280"/>
              <a:ext cx="53316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6560" y="69228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0000" y="69228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1640" y="69228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33640" y="69228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449280" y="380880"/>
              <a:ext cx="1066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601640" y="1052640"/>
              <a:ext cx="9223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3616200" y="1341360"/>
            <a:ext cx="49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比较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德意志君主立宪制和法国民主共和制的异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20560" y="364500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2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比较德意志君主立宪制和法国民主共和制的异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721044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都属于资产阶级代议制，都代表资产阶级的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Arial"/>
                <a:ea typeface="黑体"/>
              </a:rPr>
              <a:t>不同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50920" y="2349360"/>
          <a:ext cx="8435880" cy="4032360"/>
        </p:xfrm>
        <a:graphic>
          <a:graphicData uri="http://schemas.openxmlformats.org/drawingml/2006/table">
            <a:tbl>
              <a:tblPr/>
              <a:tblGrid>
                <a:gridCol w="2530440"/>
                <a:gridCol w="3093840"/>
                <a:gridCol w="281160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比较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法国民主共和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德国君主立宪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468360" y="3573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国家元首产生的办法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4328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总统由选举产生，任期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年，连选连任，要对议会负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35733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皇帝世袭，凌驾于议会之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0846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行政权与立法权关系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486900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行政权属于总统，总统对议会负责；总统可以控制众议院的议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479736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皇帝拥有巨大权力，可以召集解散议会，而议会无法制约皇帝的行政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H="1" rot="20402400">
            <a:off x="3562200" y="549360"/>
            <a:ext cx="5131080" cy="3576960"/>
          </a:xfrm>
          <a:prstGeom prst="cloudCallout">
            <a:avLst>
              <a:gd name="adj1" fmla="val 70805"/>
              <a:gd name="adj2" fmla="val 260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04920" y="380880"/>
            <a:ext cx="2262240" cy="1662120"/>
            <a:chOff x="304920" y="380880"/>
            <a:chExt cx="2262240" cy="1662120"/>
          </a:xfrm>
        </p:grpSpPr>
        <p:sp>
          <p:nvSpPr>
            <p:cNvPr id="192" name=""/>
            <p:cNvSpPr/>
            <p:nvPr/>
          </p:nvSpPr>
          <p:spPr>
            <a:xfrm>
              <a:off x="304920" y="692280"/>
              <a:ext cx="53316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6560" y="69228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70000" y="69228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1640" y="69228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33640" y="692280"/>
              <a:ext cx="53352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449280" y="380880"/>
              <a:ext cx="1066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601640" y="1052640"/>
              <a:ext cx="9223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3635280" y="1773360"/>
            <a:ext cx="49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黑体"/>
              </a:rPr>
              <a:t>比较德国君主立宪制与英国君主立宪制的异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20560" y="364500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比较德国君主立宪制与英国君主立宪制的异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936880"/>
          <a:ext cx="8001000" cy="3692520"/>
        </p:xfrm>
        <a:graphic>
          <a:graphicData uri="http://schemas.openxmlformats.org/drawingml/2006/table">
            <a:tbl>
              <a:tblPr/>
              <a:tblGrid>
                <a:gridCol w="2286000"/>
                <a:gridCol w="2819520"/>
                <a:gridCol w="289548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比较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英国君主立宪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德国君主立宪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62120" y="91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黑体"/>
              </a:rPr>
              <a:t>相同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1295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、都是资产阶级代议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828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0000"/>
                </a:solidFill>
                <a:latin typeface="黑体"/>
                <a:ea typeface="黑体"/>
              </a:rPr>
              <a:t>、君主都是世袭，终身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6576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黑体"/>
              </a:rPr>
              <a:t>权力中心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4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733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在议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809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在君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724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黑体"/>
              </a:rPr>
              <a:t>君主权限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4800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统而不治，无实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4495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君主凌驾于议会之上，掌握国家的实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5638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黑体"/>
              </a:rPr>
              <a:t>内阁产生的途径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5638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议会产生，对议会负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91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君主任命，对君主负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不同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flipH="1" rot="20402400">
            <a:off x="3562200" y="549360"/>
            <a:ext cx="5131080" cy="3576960"/>
          </a:xfrm>
          <a:prstGeom prst="cloudCallout">
            <a:avLst>
              <a:gd name="adj1" fmla="val 70805"/>
              <a:gd name="adj2" fmla="val 260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4000" y="404640"/>
            <a:ext cx="2261520" cy="1662120"/>
            <a:chOff x="324000" y="404640"/>
            <a:chExt cx="2261520" cy="1662120"/>
          </a:xfrm>
        </p:grpSpPr>
        <p:sp>
          <p:nvSpPr>
            <p:cNvPr id="219" name=""/>
            <p:cNvSpPr/>
            <p:nvPr/>
          </p:nvSpPr>
          <p:spPr>
            <a:xfrm>
              <a:off x="324000" y="716040"/>
              <a:ext cx="53280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280" y="716040"/>
              <a:ext cx="53316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88720" y="716040"/>
              <a:ext cx="53316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20360" y="716040"/>
              <a:ext cx="53316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52360" y="716040"/>
              <a:ext cx="533160" cy="457200"/>
            </a:xfrm>
            <a:prstGeom prst="ellipse">
              <a:avLst/>
            </a:prstGeom>
            <a:solidFill>
              <a:srgbClr val="0066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468000" y="404640"/>
              <a:ext cx="1066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620360" y="1076400"/>
              <a:ext cx="92196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>
            <a:off x="3616200" y="1341360"/>
            <a:ext cx="49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比较英国、法国、德国三种政体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20560" y="3645000"/>
            <a:ext cx="2665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75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1120" y="-525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艰难的法兰西共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3880" y="76500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第三共和国建立的背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060640"/>
            <a:ext cx="79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34936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封建势力：十分强大、竭力维护君主专制统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资产阶级：反抗激烈、公开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反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君主专制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抨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宗教神权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黑体"/>
              </a:rPr>
              <a:t>号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民争取自由和民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5229360"/>
            <a:ext cx="525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869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  <a:ea typeface="黑体"/>
              </a:rPr>
              <a:t>思考：法国共和制的确立经历了怎样的艰难历程？试分析共和之路艰难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557360"/>
            <a:ext cx="82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封建君主专制与资产阶级的矛盾尖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50920" y="517680"/>
          <a:ext cx="8713800" cy="6264000"/>
        </p:xfrm>
        <a:graphic>
          <a:graphicData uri="http://schemas.openxmlformats.org/drawingml/2006/table">
            <a:tbl>
              <a:tblPr/>
              <a:tblGrid>
                <a:gridCol w="936360"/>
                <a:gridCol w="2318040"/>
                <a:gridCol w="2743200"/>
                <a:gridCol w="271620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德国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8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司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军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权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政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1652400" y="1062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在下议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01440" y="106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1066680"/>
            <a:ext cx="1981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帝国议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（皇帝批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57240" y="192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议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86360" y="1752480"/>
            <a:ext cx="1674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众议院（受参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院和总统控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24400" y="2803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相内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81000" y="2717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55760" y="2743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宰相（皇帝任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64720" y="34974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议会授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相执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65160" y="371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4792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4680" y="4875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09800" y="3639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66400" y="4875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议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85320" y="6032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主立宪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00440" y="6004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和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59640" y="590544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浓厚封建残余的“君主立宪制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781680" y="196524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36960" y="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比较英法德三国政体的不同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20760" y="-525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艰难的法兰西共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79280" y="1700280"/>
            <a:ext cx="8964000" cy="581400"/>
            <a:chOff x="179280" y="1700280"/>
            <a:chExt cx="8964000" cy="581400"/>
          </a:xfrm>
        </p:grpSpPr>
        <p:sp>
          <p:nvSpPr>
            <p:cNvPr id="56" name=""/>
            <p:cNvSpPr/>
            <p:nvPr/>
          </p:nvSpPr>
          <p:spPr>
            <a:xfrm>
              <a:off x="179280" y="1700280"/>
              <a:ext cx="328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1789-179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58920" y="1700280"/>
              <a:ext cx="60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法国大革命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&gt;&gt;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第一共和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0920" y="2421000"/>
            <a:ext cx="5574960" cy="581400"/>
            <a:chOff x="250920" y="2421000"/>
            <a:chExt cx="5574960" cy="581400"/>
          </a:xfrm>
        </p:grpSpPr>
        <p:sp>
          <p:nvSpPr>
            <p:cNvPr id="59" name=""/>
            <p:cNvSpPr/>
            <p:nvPr/>
          </p:nvSpPr>
          <p:spPr>
            <a:xfrm>
              <a:off x="250920" y="2421000"/>
              <a:ext cx="254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18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0560" y="242100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拿破仑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&gt;&gt;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第一帝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50920" y="3141720"/>
            <a:ext cx="7489080" cy="581400"/>
            <a:chOff x="250920" y="3141720"/>
            <a:chExt cx="7489080" cy="581400"/>
          </a:xfrm>
        </p:grpSpPr>
        <p:sp>
          <p:nvSpPr>
            <p:cNvPr id="62" name=""/>
            <p:cNvSpPr/>
            <p:nvPr/>
          </p:nvSpPr>
          <p:spPr>
            <a:xfrm>
              <a:off x="250920" y="3141720"/>
              <a:ext cx="23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18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58520" y="3141720"/>
              <a:ext cx="5181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波旁王朝复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50920" y="3789360"/>
            <a:ext cx="7083000" cy="581400"/>
            <a:chOff x="250920" y="3789360"/>
            <a:chExt cx="7083000" cy="581400"/>
          </a:xfrm>
        </p:grpSpPr>
        <p:sp>
          <p:nvSpPr>
            <p:cNvPr id="65" name=""/>
            <p:cNvSpPr/>
            <p:nvPr/>
          </p:nvSpPr>
          <p:spPr>
            <a:xfrm>
              <a:off x="250920" y="3789360"/>
              <a:ext cx="242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18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0880" y="3789360"/>
              <a:ext cx="3533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再次爆发革命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&gt;&gt;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第二共和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68200" y="4437000"/>
            <a:ext cx="9667440" cy="611640"/>
            <a:chOff x="268200" y="4437000"/>
            <a:chExt cx="9667440" cy="611640"/>
          </a:xfrm>
        </p:grpSpPr>
        <p:sp>
          <p:nvSpPr>
            <p:cNvPr id="68" name=""/>
            <p:cNvSpPr/>
            <p:nvPr/>
          </p:nvSpPr>
          <p:spPr>
            <a:xfrm>
              <a:off x="268200" y="4437000"/>
              <a:ext cx="20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185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0560" y="4467240"/>
              <a:ext cx="752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路易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.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波拿巴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&gt;&gt;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第二帝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0" y="5157720"/>
            <a:ext cx="10332720" cy="581400"/>
            <a:chOff x="0" y="5157720"/>
            <a:chExt cx="10332720" cy="581400"/>
          </a:xfrm>
        </p:grpSpPr>
        <p:sp>
          <p:nvSpPr>
            <p:cNvPr id="71" name=""/>
            <p:cNvSpPr/>
            <p:nvPr/>
          </p:nvSpPr>
          <p:spPr>
            <a:xfrm>
              <a:off x="0" y="5157720"/>
              <a:ext cx="33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6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187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2280" y="5157720"/>
              <a:ext cx="829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巴黎人民起义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Arial"/>
                </a:rPr>
                <a:t>&gt;&gt;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第三共和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688760" y="9144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立过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、共和之路艰难的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20760" y="18900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艰难的法兰西共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9162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资本主义发展相对薄弱，资产阶级力量弱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213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法国是典型的封建专制国家，君主思想作为封建残余长期存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4581360"/>
            <a:ext cx="7775640" cy="2276640"/>
          </a:xfrm>
          <a:prstGeom prst="wedgeRoundRectCallout">
            <a:avLst>
              <a:gd name="adj1" fmla="val -10328"/>
              <a:gd name="adj2" fmla="val -218689"/>
              <a:gd name="adj3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为了巩固共和制，法国国民议会颁布了法兰西第三共和国宪法，请回答：这部宪法的主要内容有哪些？其中对议会的权力是是如何规定的？它的颁布有何意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8640" y="12682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00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议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12840" cy="1008000"/>
          </a:xfrm>
          <a:custGeom>
            <a:avLst/>
            <a:gdLst>
              <a:gd name="textAreaLeft" fmla="*/ 199800 w 312840"/>
              <a:gd name="textAreaRight" fmla="*/ 313200 w 3128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256536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参议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73080" y="4343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8200" y="17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众议院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2492280"/>
            <a:ext cx="324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间接选举产生，任期九年，有权否决众议院决议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1484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成年男子直接选出，任期四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87640" y="4941720"/>
            <a:ext cx="388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法国共和政体的确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765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标志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87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宪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84720" y="1916280"/>
            <a:ext cx="433440" cy="1584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41040 h 1584000"/>
              <a:gd name="textAreaBottom" fmla="*/ 1542960 h 15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1916280"/>
            <a:ext cx="22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参、众两院联席会议可选举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36572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86600" y="3933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方式：议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443700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地位：国家元首、军队最高统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4520" y="4941720"/>
            <a:ext cx="540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权力：行政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权任命部长等高级官员、缔结条约和实行特赦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众议院同意有权任命内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经参议院同意有权解散众议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2060640"/>
            <a:ext cx="457200" cy="1008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140360" y="0"/>
            <a:ext cx="5003640" cy="3933720"/>
            <a:chOff x="4140360" y="0"/>
            <a:chExt cx="5003640" cy="3933720"/>
          </a:xfrm>
        </p:grpSpPr>
        <p:grpSp>
          <p:nvGrpSpPr>
            <p:cNvPr id="98" name=""/>
            <p:cNvGrpSpPr/>
            <p:nvPr/>
          </p:nvGrpSpPr>
          <p:grpSpPr>
            <a:xfrm>
              <a:off x="5003640" y="0"/>
              <a:ext cx="4140360" cy="3139920"/>
              <a:chOff x="5003640" y="0"/>
              <a:chExt cx="4140360" cy="313992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5486400" y="0"/>
                <a:ext cx="3657600" cy="1989000"/>
                <a:chOff x="5486400" y="0"/>
                <a:chExt cx="3657600" cy="1989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486400" y="0"/>
                  <a:ext cx="3657600" cy="1676520"/>
                </a:xfrm>
                <a:prstGeom prst="cloudCallout">
                  <a:avLst>
                    <a:gd name="adj1" fmla="val -93620"/>
                    <a:gd name="adj2" fmla="val 204736"/>
                  </a:avLst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与美国总统产生的方式有何不同？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80000" y="1700280"/>
                  <a:ext cx="792360" cy="2887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003640" y="2924280"/>
                <a:ext cx="503280" cy="2156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140360" y="3789360"/>
              <a:ext cx="287280" cy="144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752480"/>
            <a:ext cx="83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宪法颁布后，共和派经艰苦斗争，终于掌握了众议院、参议院、内阁和总统等关键职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8526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共和政体的确立和巩固，为工业资产阶级提供分享政权的机会，为法国资本主义进一步发展奠定了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5000" y="782640"/>
            <a:ext cx="24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影      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97800" y="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德意志帝国的君主立宪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92280"/>
            <a:ext cx="88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君主立宪制建立的背景：统一的完成、帝国的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2536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）原因和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6064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资本主义经济的发展，提供了物质条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7440" y="2565360"/>
            <a:ext cx="6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普鲁士经济、军事实力强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068640"/>
            <a:ext cx="84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 action="ppaction://hlinksldjump"/>
              </a:rPr>
              <a:t>俾斯麦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推行“铁血政策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500280"/>
            <a:ext cx="40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方式：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王朝战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57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四分五裂的局面严重阻碍着资本主义经济的发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458136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00536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评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为德国资本主义经济的发展提供了统一的国内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为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19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世纪末德国成为世界强国创造了有利条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保留了大量的封建残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继承了德国军国主义传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950080"/>
            <a:ext cx="900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905120" y="0"/>
          <a:ext cx="541008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4100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7696080" y="1708200"/>
            <a:ext cx="8384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俾斯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371600"/>
            <a:ext cx="8384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铁血宰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72360" y="6237360"/>
            <a:ext cx="720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32000" y="6156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865-187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德意志的统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916000" y="188640"/>
            <a:ext cx="1603080" cy="119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6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奥对丹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23920" y="2743200"/>
            <a:ext cx="76212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2096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奥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990720" y="1981080"/>
            <a:ext cx="5029200" cy="2210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17524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16765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法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6524640"/>
            <a:ext cx="826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1:28:01Z</dcterms:created>
  <dc:creator>user</dc:creator>
  <dc:description/>
  <dc:language>en-US</dc:language>
  <cp:lastModifiedBy>微软中国</cp:lastModifiedBy>
  <dcterms:modified xsi:type="dcterms:W3CDTF">2007-09-11T06:51:25Z</dcterms:modified>
  <cp:revision>93</cp:revision>
  <dc:subject/>
  <dc:title>第十二课 民族国家的统一之路</dc:title>
</cp:coreProperties>
</file>