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C83-DB0B-41F2-B8C9-6348F730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E50-6D62-4B48-9380-EFD4314F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21A-238D-4650-9057-7B399DA6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8A9-4163-4059-B7EE-1F4DD3FC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4D74-413E-4C25-BE4D-934709FC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FD88-13B0-474C-9927-81C18869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6AD5-244A-4B25-99D1-0206258F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E80E-6325-42DD-BCD3-8E3E1E2C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699C-9827-4E18-9EE3-D63F8D65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4256-BA85-491B-83A4-C90451C5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91A4-5F34-4F57-99EE-E2B83D6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1B5-F46D-47A2-BD47-2FF8E5BB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8450-C109-49B3-80FB-58775966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C990-A05E-4061-BAF9-05E9DD23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52B9-0F79-49CE-9A56-EE1710AC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DC62-E82A-4BBB-8590-B437858E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FA66-CDEB-4C23-8B06-077DD7B5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0C9-DE55-4693-AF30-367709B8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252-1229-458E-8BF3-C97DF9C6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7CE-159D-447A-BD4B-FD7AD8FD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39D-E292-46DE-A9FB-0DB78C76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BBE-A31B-4E0A-984C-1E071D5C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F7F-9EAC-4A03-A9A4-C22C4BBC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687-6EBE-4F3D-8523-6C631594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B3A9-9D97-4A1B-88A8-665AEB6965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A839-3702-4838-9E24-9AEF949280B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44792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新课程 • 新教材 • 新教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  <a:ea typeface="楷体_GB2312"/>
              </a:rPr>
              <a:t>牛学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  <a:ea typeface="楷体_GB2312"/>
              </a:rPr>
              <a:t>浙江省教育厅教研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906480"/>
            <a:ext cx="7993080" cy="846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74"/>
                </a:solidFill>
                <a:latin typeface="Tahoma"/>
                <a:ea typeface="黑体"/>
              </a:rPr>
              <a:t>大众传媒的影响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5715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执教： 牛学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D06662_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1793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1072800"/>
            <a:ext cx="7462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幼圆"/>
              </a:rPr>
              <a:t>学习目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09680" y="201780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通过联系阅读，咱们需了解不同时代的传媒及影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通过阅读讨论，咱们应学会全面、辨证地看待传媒的影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在讨论辩论过程中，咱们要提高自己的综合能力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反思：目标出示时间短，解释也不够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2209680"/>
            <a:ext cx="1523880" cy="1600200"/>
          </a:xfrm>
          <a:prstGeom prst="cloudCallout">
            <a:avLst>
              <a:gd name="adj1" fmla="val -19060"/>
              <a:gd name="adj2" fmla="val 471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013040" cy="1569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幼圆"/>
                <a:ea typeface="幼圆"/>
              </a:rPr>
              <a:t>温情提示：联系阅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书时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边看书边联系以前学过的知识和自己身边实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然后，提出一个能反映自己愿望和水平的问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要解释一下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BS00559_" descr=""/>
          <p:cNvPicPr/>
          <p:nvPr/>
        </p:nvPicPr>
        <p:blipFill>
          <a:blip r:embed="rId1"/>
          <a:stretch/>
        </p:blipFill>
        <p:spPr>
          <a:xfrm>
            <a:off x="4191120" y="4648320"/>
            <a:ext cx="3581280" cy="166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幼圆"/>
                <a:ea typeface="幼圆"/>
              </a:rPr>
              <a:t>温情提示：主动问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把自己提出的问题在组内进行交流、讨论，并加以解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之后，把最能代表你组愿望和水平的问题提出来由其他组回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活动开始前，先民主推选组长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给本组起一个响亮的名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反思：应参与讨论，并适当点拨；小组的名字应反复提及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BD06517_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2210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幼圆"/>
                <a:ea typeface="幼圆"/>
              </a:rPr>
              <a:t>温情提示：自主讨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辩论规则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一、各方可以推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位能说会道的同学为主辩手，其他同学递建议条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二、如果一方发言后，另一方长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种没有发言，则判另一方为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现在给大家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钟准备时间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反思：辩论时间短，最好由学生主持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应有点评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486400" y="4572000"/>
            <a:ext cx="28195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幼圆"/>
              </a:rPr>
              <a:t>自评互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，我最大的收获是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，我感受最深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，我最大的遗憾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互相评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发言最积极的同学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论辩水平最高的同学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与以前比，本节课进步最大的同学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ahoma"/>
              </a:rPr>
              <a:t>（反思：由学生自由发言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1995480" cy="325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91320" y="1143000"/>
            <a:ext cx="1981080" cy="1523880"/>
          </a:xfrm>
          <a:prstGeom prst="cloudCallout">
            <a:avLst>
              <a:gd name="adj1" fmla="val 35736"/>
              <a:gd name="adj2" fmla="val 971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嘿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让我想想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课后反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行为不幽默，语言不连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没有反映出知识的渊博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宏观调控能力不强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提出的问题过于笼统，针对性不强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应写详案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辩论赛应做好充分准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66880" y="2895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Tahoma"/>
                <a:ea typeface="隶书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黑体"/>
              </a:rPr>
              <a:t>新课程“新”在哪里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课程目标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----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三维一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课程内容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----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行为化陈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课程标准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----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是“纲”不“刚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知识与技能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知识即经验，是结构性知识（概念、原理、方法论等）和非结构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如个人独特生活经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的统一。结构性知识又分为陈述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是什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、程序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、怎么办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和策略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如何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三类。技能即动作方式，就是在特定目标指示下的操作顺序，它可分动作技能和智力技能两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知识和技能目标要求“了解人类生活的自然环境差异、不同区域的人文特征、历史变迁及其各种问题；理解人们政治、经济、文化生活的丰富内涵，以及人的发展与自然、社会的相互关系；知道人类物质文明、精神文明与制度文明发展的一般过程和基本趋势；会用多种方法和现代信息技术收集、保存、处理和评价社会信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过程与方法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过程与方法是指了解科学探究的过程和方法，学会发现、思考和解决问题的方法，学会学习，形成创新精神和实践能力等。它倡导以活动带知识和技能的方法，把知识和能力紧密结合起来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过程与方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目标要求“尝试用历史的、辩证的眼光观察、评价现实问题，提高判断重大是非的能力；思考优秀的民族传统文化与外国文化的创造过程，培养当代青年应有的创新能力；体会在社会生活中个人与集体的关系，学会恰当展示自己、关爱他人、与人合作；尝试从不同角度、综合多种知识探究社会问题，提高参与社会实践和自主学习的能力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情感态度与价值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情感态度价值观涵盖的内容更加广泛，包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正确面对人生和社会发展的各种问题，逐步树立集体主义、爱国主义和社会主义思想，初步形成科学的世界观、人生观和价值观，成为有责任感和使命感的公民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情感态度价值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目标要求“关注中华文明的发展历程，树立为实现中华民族伟大复兴而奋斗的志向，以及建设有中国特色社会主义的共同理想；关心现代社会发展的需要，形成崇尚科学的态度和可持续发展的观念，以及终身学习的愿望；热心社会公益活动，依法行使公民权利和义务，树立民主与法制观念，增强社会责任感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8686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课程内容的呈现方式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行为化陈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化是指对有关内容目标的操作提出行为要求和指导，以操作行为的实施与否作为衡量的标准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收入和支出的含义”可行为化为“根据个人家庭理财经验（行为条件），领会（行为动词）合理安排收入、支出的意义（表现程度）”；“民主政治的涵义”可行为化为“讨论（行为动词）本地特别关注的问题（行为条件），体验（行为动词）公民的主动参与对推进民主政治建设的重要作用（表现程度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见，行为目标陈述有四个要素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主体、行为动词、行为条件和表现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主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学生而不是教师，采用“使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、“培养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、“提高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等方式是不符合陈述要求的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动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用于描述学生所形成的可观察、可测量的具体行为，不能用诸如“培养、提高、掌握、灵活运用”等笼统、模糊的术语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指影响学生产生学习结果的特定的限制或范围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现程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学生学习之后预期应有的表现内容，并以此评估、测量学习过程或结果所达到的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黑体"/>
              </a:rPr>
              <a:t>新教材“新”在哪里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先有标准后有教材，“一标多本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教材（教科书）是课程资源，不是“圣经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教科书人人可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人教版《历史与社会》教材的“新”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黑体"/>
              </a:rPr>
              <a:t>新教法“新”在哪里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以学生的发展为本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知识什么时候才有用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以“学”定“教”而不是以“考”定“教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用教科书教”而不是“教教科书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要教学模式但不能“模式化”（课题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最高境界：“无招胜有招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1876320"/>
            <a:ext cx="723924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联系阅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动问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主讨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评互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人入胜                   精导妙引                        结尾无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案例：《大众传媒的影响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514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3200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80720" y="3962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8108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79132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28954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81952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26708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913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31520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76920" y="2895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219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课题：《综合性学习的课堂教学模式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81080" y="2514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2:39:38Z</dcterms:created>
  <dc:creator>方红峰</dc:creator>
  <dc:description/>
  <dc:language>en-US</dc:language>
  <cp:lastModifiedBy>nxw</cp:lastModifiedBy>
  <dcterms:modified xsi:type="dcterms:W3CDTF">2003-12-26T01:57:03Z</dcterms:modified>
  <cp:revision>28</cp:revision>
  <dc:subject/>
  <dc:title>  《科学》（7~9）年级课程标准学习辅导</dc:title>
</cp:coreProperties>
</file>