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4D0-2044-4C5C-847E-7F2DE1D1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E9B-2C08-4B4C-9912-98024D2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96E-6742-4E6C-A325-9C41A8E4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B7B-5269-48E7-8064-03247272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AB8-9601-40A9-8834-E33C7F40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070-59D2-42A0-9ADE-BC6B59B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B89-46CB-4906-86BC-8EB1CE8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741-8BCC-490E-A8E9-F9FF74B8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FD9-70EA-40A2-B7CC-4BA83EC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AF3-4107-4304-A082-AE20089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D1B-EAA4-4535-9734-68613E7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0C4-C374-4CC1-89D7-124125C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90D2-2F59-463F-B636-83286860DC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</a:t>
            </a:r>
            <a:r>
              <a:rPr b="1" lang="zh-CN" sz="12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走进社会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历史与社会》七年级下册第六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50292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临安锦城四中   金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本单元教学建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7432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联系生活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1148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情感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4479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根据课型选择教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6212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领着学生走进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3623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学生带着我融入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9625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师生共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45600" y="685800"/>
            <a:ext cx="1642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生活的世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7080" y="457200"/>
            <a:ext cx="1826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个人和社会生活的时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2640" y="16002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8195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57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53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在社区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类共同生活的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各族人民的家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具特色的区域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生活的变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32920" y="3581280"/>
            <a:ext cx="6182280" cy="2593440"/>
            <a:chOff x="1132920" y="3581280"/>
            <a:chExt cx="6182280" cy="2593440"/>
          </a:xfrm>
        </p:grpSpPr>
        <p:sp>
          <p:nvSpPr>
            <p:cNvPr id="60" name=""/>
            <p:cNvSpPr/>
            <p:nvPr/>
          </p:nvSpPr>
          <p:spPr>
            <a:xfrm>
              <a:off x="1132920" y="3581280"/>
              <a:ext cx="18262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和社会生活的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18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268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52680" y="38862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26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3657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进社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4343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活的规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5029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向富足的文明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57150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丰富多彩的精神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9718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477120" y="380880"/>
            <a:ext cx="1844640" cy="2743200"/>
            <a:chOff x="6477120" y="380880"/>
            <a:chExt cx="1844640" cy="2743200"/>
          </a:xfrm>
        </p:grpSpPr>
        <p:sp>
          <p:nvSpPr>
            <p:cNvPr id="73" name=""/>
            <p:cNvSpPr/>
            <p:nvPr/>
          </p:nvSpPr>
          <p:spPr>
            <a:xfrm>
              <a:off x="6705720" y="45720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77120" y="1905120"/>
              <a:ext cx="12189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760" y="380880"/>
              <a:ext cx="152100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地关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477120" y="3200400"/>
            <a:ext cx="1784160" cy="3657600"/>
            <a:chOff x="6477120" y="3200400"/>
            <a:chExt cx="1784160" cy="3657600"/>
          </a:xfrm>
        </p:grpSpPr>
        <p:sp>
          <p:nvSpPr>
            <p:cNvPr id="77" name=""/>
            <p:cNvSpPr/>
            <p:nvPr/>
          </p:nvSpPr>
          <p:spPr>
            <a:xfrm>
              <a:off x="6477120" y="39625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05720" y="487692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61960" y="3200400"/>
              <a:ext cx="139932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与社会关系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 要 内 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内容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51460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结构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8769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单元教学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657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对本单元教学后的感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单元 教材内容特点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5238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现实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89548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情感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191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</a:t>
            </a:r>
            <a:r>
              <a:rPr b="0" lang="zh-CN" sz="7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价值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本单元教材结构分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2438280"/>
            <a:ext cx="1600200" cy="1800720"/>
            <a:chOff x="304920" y="2438280"/>
            <a:chExt cx="1600200" cy="1800720"/>
          </a:xfrm>
        </p:grpSpPr>
        <p:sp>
          <p:nvSpPr>
            <p:cNvPr id="91" name=""/>
            <p:cNvSpPr/>
            <p:nvPr/>
          </p:nvSpPr>
          <p:spPr>
            <a:xfrm>
              <a:off x="304920" y="304776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生活在社会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362320"/>
            <a:ext cx="1752480" cy="1877040"/>
            <a:chOff x="2286000" y="2362320"/>
            <a:chExt cx="1752480" cy="1877040"/>
          </a:xfrm>
        </p:grpSpPr>
        <p:sp>
          <p:nvSpPr>
            <p:cNvPr id="94" name=""/>
            <p:cNvSpPr/>
            <p:nvPr/>
          </p:nvSpPr>
          <p:spPr>
            <a:xfrm>
              <a:off x="2286000" y="3048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社会是我们共同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2362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38480" y="2362320"/>
            <a:ext cx="2895840" cy="1953000"/>
            <a:chOff x="4038480" y="2362320"/>
            <a:chExt cx="2895840" cy="1953000"/>
          </a:xfrm>
        </p:grpSpPr>
        <p:sp>
          <p:nvSpPr>
            <p:cNvPr id="97" name=""/>
            <p:cNvSpPr/>
            <p:nvPr/>
          </p:nvSpPr>
          <p:spPr>
            <a:xfrm>
              <a:off x="4038480" y="312408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我们在 社会舞台上扮演不同的角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14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29400" y="2362320"/>
            <a:ext cx="2514600" cy="1953000"/>
            <a:chOff x="6629400" y="2362320"/>
            <a:chExt cx="2514600" cy="1953000"/>
          </a:xfrm>
        </p:grpSpPr>
        <p:sp>
          <p:nvSpPr>
            <p:cNvPr id="100" name=""/>
            <p:cNvSpPr/>
            <p:nvPr/>
          </p:nvSpPr>
          <p:spPr>
            <a:xfrm>
              <a:off x="6629400" y="31240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我们在社会舞台上受传媒影响最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4400" y="4921200"/>
            <a:ext cx="6858000" cy="1937520"/>
            <a:chOff x="914400" y="4921200"/>
            <a:chExt cx="6858000" cy="1937520"/>
          </a:xfrm>
        </p:grpSpPr>
        <p:sp>
          <p:nvSpPr>
            <p:cNvPr id="103" name=""/>
            <p:cNvSpPr/>
            <p:nvPr/>
          </p:nvSpPr>
          <p:spPr>
            <a:xfrm>
              <a:off x="7772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530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4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92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4800" y="5530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759280"/>
              <a:ext cx="4191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走进社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1371600"/>
            <a:ext cx="8153280" cy="1068840"/>
            <a:chOff x="457200" y="1371600"/>
            <a:chExt cx="8153280" cy="1068840"/>
          </a:xfrm>
        </p:grpSpPr>
        <p:grpSp>
          <p:nvGrpSpPr>
            <p:cNvPr id="111" name=""/>
            <p:cNvGrpSpPr/>
            <p:nvPr/>
          </p:nvGrpSpPr>
          <p:grpSpPr>
            <a:xfrm>
              <a:off x="457200" y="1371600"/>
              <a:ext cx="1905120" cy="609480"/>
              <a:chOff x="457200" y="1371600"/>
              <a:chExt cx="190512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1371600"/>
                <a:ext cx="167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中成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0512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629400" y="13716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大众传媒的影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514600" y="1371600"/>
              <a:ext cx="1981080" cy="1068840"/>
              <a:chOff x="2514600" y="1371600"/>
              <a:chExt cx="1981080" cy="1068840"/>
            </a:xfrm>
          </p:grpSpPr>
          <p:sp>
            <p:nvSpPr>
              <p:cNvPr id="116" name=""/>
              <p:cNvSpPr/>
              <p:nvPr/>
            </p:nvSpPr>
            <p:spPr>
              <a:xfrm>
                <a:off x="403848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14600" y="1371600"/>
                <a:ext cx="1523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你我他的世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19720" y="1371600"/>
              <a:ext cx="2209680" cy="609480"/>
              <a:chOff x="4419720" y="1371600"/>
              <a:chExt cx="220968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617220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9720" y="1371600"/>
                <a:ext cx="1904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的舞台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我对本单元教学后的感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752480"/>
            <a:ext cx="9144000" cy="3694680"/>
            <a:chOff x="0" y="1752480"/>
            <a:chExt cx="9144000" cy="3694680"/>
          </a:xfrm>
        </p:grpSpPr>
        <p:sp>
          <p:nvSpPr>
            <p:cNvPr id="123" name=""/>
            <p:cNvSpPr/>
            <p:nvPr/>
          </p:nvSpPr>
          <p:spPr>
            <a:xfrm>
              <a:off x="2666880" y="1752480"/>
              <a:ext cx="35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1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048120"/>
              <a:ext cx="9144000" cy="23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社会舞台上的不同角色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RX_021" descr=""/>
          <p:cNvPicPr/>
          <p:nvPr/>
        </p:nvPicPr>
        <p:blipFill>
          <a:blip r:embed="rId3"/>
          <a:stretch/>
        </p:blipFill>
        <p:spPr>
          <a:xfrm>
            <a:off x="3809880" y="2362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1447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990720"/>
            <a:ext cx="17528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600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676520"/>
            <a:ext cx="1676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666880"/>
            <a:ext cx="18288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743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886200"/>
            <a:ext cx="16765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96252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11480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一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181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的角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85800"/>
            <a:ext cx="8839080" cy="4614840"/>
            <a:chOff x="0" y="685800"/>
            <a:chExt cx="8839080" cy="4614840"/>
          </a:xfrm>
        </p:grpSpPr>
        <p:sp>
          <p:nvSpPr>
            <p:cNvPr id="139" name=""/>
            <p:cNvSpPr/>
            <p:nvPr/>
          </p:nvSpPr>
          <p:spPr>
            <a:xfrm>
              <a:off x="2666880" y="685800"/>
              <a:ext cx="4419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2133720"/>
              <a:ext cx="88390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大众传媒的影响》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辩一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0574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电视对青少年学生的影响利大于弊还是弊大于利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RX_021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1:00:48Z</dcterms:created>
  <dc:creator>Legend User</dc:creator>
  <dc:description/>
  <dc:language>en-US</dc:language>
  <cp:lastModifiedBy>Legend User</cp:lastModifiedBy>
  <dcterms:modified xsi:type="dcterms:W3CDTF">2003-12-26T13:37:21Z</dcterms:modified>
  <cp:revision>41</cp:revision>
  <dc:subject/>
  <dc:title>PowerPoint 演示文稿</dc:title>
</cp:coreProperties>
</file>