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gif" ContentType="image/gif"/>
  <Override PartName="/ppt/media/image24.gif" ContentType="image/gif"/>
  <Override PartName="/ppt/media/image17.png" ContentType="image/png"/>
  <Override PartName="/ppt/media/image26.jpeg" ContentType="image/jpeg"/>
  <Override PartName="/ppt/media/image5.jpeg" ContentType="image/jpeg"/>
  <Override PartName="/ppt/media/image8.gif" ContentType="image/gif"/>
  <Override PartName="/ppt/media/image33.gif" ContentType="image/gif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media/image2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9.jpeg" ContentType="image/jpeg"/>
  <Override PartName="/ppt/media/image20.jpeg" ContentType="image/jpeg"/>
  <Override PartName="/ppt/media/image32.wmf" ContentType="image/x-wmf"/>
  <Override PartName="/ppt/media/image21.jpeg" ContentType="image/jpeg"/>
  <Override PartName="/ppt/media/image22.png" ContentType="image/png"/>
  <Override PartName="/ppt/media/image2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B62-C7FF-46CA-9349-DF319298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233-4177-419B-9DB1-66152FDA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BE0-3305-495F-AF2E-5CC15B3E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896-3282-4669-A7D7-F61571DF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2CCE-B466-4A40-B282-51F55864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D86A-DFBD-4C0E-8EBB-171EB528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84B3-52A3-4994-87A3-04991326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2D42-3430-44AE-BA38-C1DA5A87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E7FF-E317-4AE4-8590-52C60779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27DE-7A09-492A-8333-E315EF91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2362-876A-4D2C-97D0-887431C9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C39-D7AC-4571-9C29-446C1D51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C497-5410-4D42-82CC-FCC326D9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A19A-090D-4A9F-986F-34A17D97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4988-CE10-4A06-AA68-F9B1BD52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A64F-4C89-42C8-B75A-32B2AE65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5144-5635-4B07-A8EB-E3CA3EA2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517C-54DA-47F3-97AA-4AF48FBC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DF55-D961-401A-AFFC-3A164885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03218-6CFC-402B-AF97-099630D3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0124-2478-4B26-BBEC-1A6C203B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8883D-8CBD-41D3-8106-AD67AFAA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6F8-B95F-44C2-BB58-E1C76255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CEB2-1CAF-414C-A949-6CEA0791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EE46-D2A4-480B-A619-19EA00BF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32B00-4864-4106-A79C-B4ADD02C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DE77-25B8-46F2-9ECA-EE496150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0C96-E7EB-4E3A-8ACC-337D9BBE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47DE3-5611-460F-8FBE-8BB406DD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702F-B926-4937-98DF-8C57096B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F9A7A-3767-4052-B858-C638C42E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097B7-8CB2-480A-87D4-0D3DC0A8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5880-3269-4E5C-8536-593DBC52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EA6-C8C8-4DEB-B27A-FF9DC700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7E063-0917-4AA3-A891-79487DEA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C377-3373-4F3F-98C0-4798842A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0FA66-F777-4103-96AC-90757BD4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F8F51-55A9-45A0-9A9F-60328517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A7B73-08A6-4107-8FAB-6DF1FD29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67AB-7B1B-4C40-B6A9-0FD877B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44DE-ADF5-46D3-9B3C-7C8DE549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C3EB1-E180-4171-9CCA-014EBF66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3A95D-E6BF-4324-A991-FC9FE371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F09-6622-4D8E-93AC-1E0F4454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6AF-46CB-4854-8227-7DAC2072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F88D-A08E-4DA3-80EE-6DF955EE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98D-6F86-456F-A062-89C369E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83F-F36E-4842-8EBD-D48BE354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EA1F-DE3F-44F7-AFC0-C11797CB2C9C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58F3-40DD-40C8-9FB1-B1E23C9D65D0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C65F-C0E0-447D-86DF-9C00F3D4DEA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EB01-1A4E-4813-9C5C-8C2448156CC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" Target="slide2.xm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39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4.xm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27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gif"/><Relationship Id="rId3" Type="http://schemas.openxmlformats.org/officeDocument/2006/relationships/slide" Target="slide15.xm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30.xml"/><Relationship Id="rId3" Type="http://schemas.openxmlformats.org/officeDocument/2006/relationships/image" Target="../media/image31.gif"/><Relationship Id="rId4" Type="http://schemas.openxmlformats.org/officeDocument/2006/relationships/image" Target="../media/image32.wm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1040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348000" y="333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英国王室存在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634000"/>
            <a:ext cx="9144000" cy="1224000"/>
          </a:xfrm>
          <a:prstGeom prst="rect">
            <a:avLst/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Comic Sans MS"/>
                <a:ea typeface="黑体"/>
              </a:rPr>
              <a:t>英王是国家元首，在对外交往中代表英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Comic Sans MS"/>
                <a:ea typeface="黑体"/>
              </a:rPr>
              <a:t>英王是国家的人格化，成为民族团结的纽带和国家统一的象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Comic Sans MS"/>
                <a:ea typeface="黑体"/>
              </a:rPr>
              <a:t>英王作为英联邦首脑，还起着维系英联邦的纽带作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3429000" cy="414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5257800" cy="414036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189000"/>
            <a:ext cx="2521080" cy="20858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17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 txBox="1"/>
            <p:nvPr/>
          </p:nvSpPr>
          <p:spPr>
            <a:xfrm>
              <a:off x="1763640" y="549360"/>
              <a:ext cx="6193080" cy="15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君主立宪制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79280" y="2708280"/>
            <a:ext cx="8785440" cy="27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含义——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（资本主义国家）以世袭的君主为国家元首，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君主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权力按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宪法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规定受到一定限制的</a:t>
            </a:r>
            <a:r>
              <a:rPr b="1" lang="zh-CN" sz="36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政权组织形式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067280" y="1700280"/>
            <a:ext cx="863640" cy="649080"/>
          </a:xfrm>
          <a:prstGeom prst="rightArrow">
            <a:avLst>
              <a:gd name="adj1" fmla="val 50000"/>
              <a:gd name="adj2" fmla="val 332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loud"/>
          <p:cNvSpPr/>
          <p:nvPr/>
        </p:nvSpPr>
        <p:spPr>
          <a:xfrm>
            <a:off x="1258920" y="4984920"/>
            <a:ext cx="3241800" cy="18730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688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年 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2" action="ppaction://hlinksldjump"/>
              </a:rPr>
              <a:t>光荣革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决了议会和国王斗争的矛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1700280"/>
            <a:ext cx="505080" cy="1873080"/>
          </a:xfrm>
          <a:custGeom>
            <a:avLst/>
            <a:gdLst>
              <a:gd name="textAreaLeft" fmla="*/ 67680 w 505080"/>
              <a:gd name="textAreaRight" fmla="*/ 437400 w 505080"/>
              <a:gd name="textAreaTop" fmla="*/ 327600 h 1873080"/>
              <a:gd name="textAreaBottom" fmla="*/ 135792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141720"/>
            <a:ext cx="4321080" cy="1942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资产阶级和新贵族领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议会最终获得胜利，</a:t>
            </a:r>
            <a:r>
              <a:rPr b="0" lang="zh-CN" sz="2400" spc="-1" strike="noStrike" u="sng">
                <a:solidFill>
                  <a:srgbClr val="336699"/>
                </a:solidFill>
                <a:uFillTx/>
                <a:latin typeface="Arial"/>
                <a:hlinkClick r:id="rId3" action="ppaction://hlinksldjump"/>
              </a:rPr>
              <a:t>国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6699"/>
                </a:solidFill>
                <a:uFillTx/>
                <a:latin typeface="Arial"/>
                <a:hlinkClick r:id="rId4" action="ppaction://hlinksldjump"/>
              </a:rPr>
              <a:t>被押上断头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立共和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3645000"/>
            <a:ext cx="792360" cy="647640"/>
          </a:xfrm>
          <a:prstGeom prst="leftArrow">
            <a:avLst>
              <a:gd name="adj1" fmla="val 50000"/>
              <a:gd name="adj2" fmla="val 3058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2560" y="4653000"/>
            <a:ext cx="576360" cy="1727280"/>
          </a:xfrm>
          <a:custGeom>
            <a:avLst/>
            <a:gdLst>
              <a:gd name="textAreaLeft" fmla="*/ 77040 w 576360"/>
              <a:gd name="textAreaRight" fmla="*/ 499320 w 576360"/>
              <a:gd name="textAreaTop" fmla="*/ 302040 h 1727280"/>
              <a:gd name="textAreaBottom" fmla="*/ 125244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ocument"/>
          <p:cNvSpPr/>
          <p:nvPr/>
        </p:nvSpPr>
        <p:spPr>
          <a:xfrm>
            <a:off x="5003640" y="981000"/>
            <a:ext cx="3240360" cy="20163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导火线及开始：为镇压苏格兰人民起义，国王不得不召开休会多年的议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、历史纵横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900000" y="1125360"/>
            <a:ext cx="2843280" cy="1871640"/>
            <a:chOff x="900000" y="1125360"/>
            <a:chExt cx="2843280" cy="1871640"/>
          </a:xfrm>
        </p:grpSpPr>
        <p:sp>
          <p:nvSpPr>
            <p:cNvPr id="328" name="Document"/>
            <p:cNvSpPr/>
            <p:nvPr/>
          </p:nvSpPr>
          <p:spPr>
            <a:xfrm>
              <a:off x="900000" y="1125360"/>
              <a:ext cx="2843280" cy="1871640"/>
            </a:xfrm>
            <a:prstGeom prst="pie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22200" y="1485720"/>
              <a:ext cx="2411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根本原因：封建专制统治阻碍了</a:t>
              </a:r>
              <a:r>
                <a:rPr b="0" lang="zh-CN" sz="2400" spc="-1" strike="noStrike" u="sng">
                  <a:solidFill>
                    <a:srgbClr val="336699"/>
                  </a:solidFill>
                  <a:uFillTx/>
                  <a:latin typeface="Arial"/>
                  <a:hlinkClick r:id="rId5" action="ppaction://hlinksldjump"/>
                </a:rPr>
                <a:t>资本主义的发展</a:t>
              </a:r>
              <a:r>
                <a:rPr b="0" lang="zh-CN" sz="2400" spc="-1" strike="noStrike" u="sng">
                  <a:solidFill>
                    <a:srgbClr val="336699"/>
                  </a:solidFill>
                  <a:uFillTx/>
                  <a:latin typeface="Arial"/>
                  <a:hlinkClick r:id="rId6" action="ppaction://hlinksldjump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900000" y="3357720"/>
            <a:ext cx="2664000" cy="1223640"/>
          </a:xfrm>
          <a:prstGeom prst="roundRect">
            <a:avLst>
              <a:gd name="adj" fmla="val 16667"/>
            </a:avLst>
          </a:prstGeom>
          <a:solidFill>
            <a:srgbClr val="bfe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斯图亚特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朝复辟，反攻倒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1280" y="2462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光荣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5589720"/>
            <a:ext cx="863640" cy="576000"/>
          </a:xfrm>
          <a:prstGeom prst="rightArrow">
            <a:avLst>
              <a:gd name="adj1" fmla="val 50000"/>
              <a:gd name="adj2" fmla="val 3748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08720" y="5157720"/>
            <a:ext cx="3456000" cy="136692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结果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68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7" action="ppaction://hlinksldjump"/>
              </a:rPr>
              <a:t>《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8" action="ppaction://hlinksldjump"/>
              </a:rPr>
              <a:t>权利法案</a:t>
            </a:r>
            <a:r>
              <a:rPr b="0" lang="zh-CN" sz="2000" spc="-1" strike="noStrike" u="sng">
                <a:solidFill>
                  <a:srgbClr val="336699"/>
                </a:solidFill>
                <a:uFillTx/>
                <a:latin typeface="Arial"/>
                <a:hlinkClick r:id="rId9" action="ppaction://hlinksldjump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奠定君主立宪制的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6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96920" y="4797360"/>
            <a:ext cx="89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1649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日，查理一世被处死，其意义在于否定了君权神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2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0920" y="18900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二、议会权力的确立</a:t>
            </a:r>
            <a:br>
              <a:rPr sz="4000"/>
            </a:b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1</a:t>
            </a: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、《权利法案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凡未经议会同意，以国王权威停止法律或停止法律实施之僭越权力，为非法行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凡未经议会准许，借口国王特权，为国王而征收，或供国王使用而征收金钱，超出议会准许之时限或方式者，皆为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设立审理宗教事务之钦差法庭之指令，以及一切其他同类指令与法庭，皆为非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除经议会同意之外，平时在本王国内征募或维持常备军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皆属违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0"/>
            <a:ext cx="3429000" cy="1752480"/>
          </a:xfrm>
          <a:prstGeom prst="cloudCallout">
            <a:avLst>
              <a:gd name="adj1" fmla="val -33611"/>
              <a:gd name="adj2" fmla="val 57791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限制了国王哪些权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04000" y="2276640"/>
            <a:ext cx="1295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立法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3573360"/>
            <a:ext cx="1295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征税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20000" y="4508640"/>
            <a:ext cx="1218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司法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00720" y="5734080"/>
            <a:ext cx="1295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军事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332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Comic Sans MS"/>
                <a:ea typeface="隶书"/>
              </a:rPr>
              <a:t>《权利法案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议会议员之选举应是自由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议会之演说自由、辩论或议事之自由，不应在议会之外任何法院或任何地方，受到弹劾或询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为伸雪一切诉冤，并为修正、加强与维护法律起见，议会应经常集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410080" y="0"/>
            <a:ext cx="3505320" cy="1676520"/>
          </a:xfrm>
          <a:prstGeom prst="cloudCallout">
            <a:avLst>
              <a:gd name="adj1" fmla="val -34101"/>
              <a:gd name="adj2" fmla="val 56912"/>
            </a:avLst>
          </a:prstGeom>
          <a:solidFill>
            <a:srgbClr val="bfe3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保证了议会哪些权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2057400"/>
            <a:ext cx="1218960" cy="459720"/>
          </a:xfrm>
          <a:prstGeom prst="rect">
            <a:avLst/>
          </a:prstGeom>
          <a:solidFill>
            <a:srgbClr val="bf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选举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08720" y="3476520"/>
            <a:ext cx="1828800" cy="459720"/>
          </a:xfrm>
          <a:prstGeom prst="rect">
            <a:avLst/>
          </a:prstGeom>
          <a:solidFill>
            <a:srgbClr val="bf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言论自由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343400"/>
            <a:ext cx="1295280" cy="459720"/>
          </a:xfrm>
          <a:prstGeom prst="rect">
            <a:avLst/>
          </a:prstGeom>
          <a:solidFill>
            <a:srgbClr val="bfe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集会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5300640"/>
            <a:ext cx="15476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0880" y="533520"/>
            <a:ext cx="8382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代议制的特点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议制下的民主化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155736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—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83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年议会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2079720"/>
            <a:ext cx="835344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改革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权利法案》后，权益之争得以和平实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业革命以后，工业资产阶级兴起，要求获得更多的政治权利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改革结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业资产阶级获得了更多的议席，大大加强了在议会中的作用，为工业资本主义的进一步发展提供了保障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历史纵横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71280" y="2462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责任内阁制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93080" y="1700280"/>
            <a:ext cx="1887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Times New Roman"/>
                <a:ea typeface="华文新魏"/>
                <a:hlinkClick r:id="rId1" action="ppaction://hlinksldjump"/>
              </a:rPr>
              <a:t>内阁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56760" y="2925720"/>
            <a:ext cx="3106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责任内阁与议会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71280" y="2462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三、责任内阁制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59800" y="9079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内阁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042920" y="981000"/>
            <a:ext cx="7848360" cy="4753440"/>
            <a:chOff x="1042920" y="981000"/>
            <a:chExt cx="7848360" cy="4753440"/>
          </a:xfrm>
        </p:grpSpPr>
        <p:sp>
          <p:nvSpPr>
            <p:cNvPr id="361" name=""/>
            <p:cNvSpPr/>
            <p:nvPr/>
          </p:nvSpPr>
          <p:spPr>
            <a:xfrm>
              <a:off x="5370480" y="981000"/>
              <a:ext cx="352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4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（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）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内阁的原意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密室，早期是国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与顾问和助手开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的地方。（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）多数党实际控制政权，后逐渐成为国王直辖的最高行政机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70480" y="996120"/>
              <a:ext cx="3228120" cy="28728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42920" y="1617120"/>
              <a:ext cx="68961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（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3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）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1714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即位的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乔治一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出生于德国，不懂英语，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英国的事务也不感兴趣，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至不出席内阁会议而让大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们去料理国事。大臣们有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就自己先商定对策，然后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提交国王，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内阁制由此得以形成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。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国王也就逐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成为“统而不治”的国家元首。内阁承担实际行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职责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       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1721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年，罗伯特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·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沃尔波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成为英国历史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第一任内阁首相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>
            <a:hlinkClick r:id="rId1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295280" y="3800520"/>
            <a:ext cx="1835280" cy="2220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657600" y="1133640"/>
            <a:ext cx="2133720" cy="16570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6477120" y="4410000"/>
            <a:ext cx="2361960" cy="1579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2895480" y="1209600"/>
            <a:ext cx="838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首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5477040"/>
            <a:ext cx="8380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议会下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5477040"/>
            <a:ext cx="12189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内阁（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政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509580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2478000">
            <a:off x="2127600" y="1630080"/>
            <a:ext cx="7290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下院大选中获胜的多数党领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2284800">
            <a:off x="3432600" y="2658600"/>
            <a:ext cx="454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对议会负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200400" y="479124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9096800">
            <a:off x="6557040" y="2121840"/>
            <a:ext cx="72900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提出名单组成责任制内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4410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对议会集体负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791320" y="1743120"/>
            <a:ext cx="2133360" cy="2666880"/>
            <a:chOff x="5791320" y="1743120"/>
            <a:chExt cx="2133360" cy="2666880"/>
          </a:xfrm>
        </p:grpSpPr>
        <p:sp>
          <p:nvSpPr>
            <p:cNvPr id="378" name=""/>
            <p:cNvSpPr/>
            <p:nvPr/>
          </p:nvSpPr>
          <p:spPr>
            <a:xfrm>
              <a:off x="5791320" y="174312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4680" y="1743120"/>
              <a:ext cx="0" cy="26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093080" y="1916280"/>
            <a:ext cx="16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内阁与首相在政治上共进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5095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Times New Roman"/>
              </a:rPr>
              <a:t>监督内阁，从而控制行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380880"/>
            <a:ext cx="24382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英国议会与政府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38280" y="2352600"/>
            <a:ext cx="11430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200040" y="2809800"/>
            <a:ext cx="76212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2428920"/>
            <a:ext cx="167652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900000" y="189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责任制内阁制的形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26920" y="836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假如你是英国下院议员，你是如何当选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71640" y="1413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假如你是英国首相，你是如何当选的？你的地位如何？你有哪些权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71640" y="242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如你是英国首相，你是如何组阁的？内阁有哪些权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348000" y="3573360"/>
            <a:ext cx="180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任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批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76360" y="37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选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47640" y="4508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国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619280" y="5300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首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19280" y="602136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国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48360" y="364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下院议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6720" y="4508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多数党领袖为首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54560" y="5300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内阁和政府成员名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6021360"/>
            <a:ext cx="34574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Arial"/>
                <a:ea typeface="黑体"/>
              </a:rPr>
              <a:t>责任制内阁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77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770" fill="hold"/>
                                        <p:tgtEl>
                                          <p:spTgt spid="3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2708280"/>
            <a:ext cx="4116240" cy="414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08560" y="0"/>
            <a:ext cx="3835440" cy="465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68360" y="1700280"/>
            <a:ext cx="331956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伊莉莎白女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96000" y="5157720"/>
            <a:ext cx="2592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布莱尔首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62064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谁在统治英国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79218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布朗上台组阁一定是具备了什么条件？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76960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首先，工党必须在下院大选中获胜成为多数党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其次，工党必须单独拥有下院中一半以上的席位或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其他党派联合拥有一半以上的席位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再次，他本人必须是工党领袖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Comic Sans MS"/>
                <a:ea typeface="华文行楷"/>
              </a:rPr>
              <a:t>最后，要由国王任命才行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3471840"/>
            <a:ext cx="8496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b200"/>
                </a:solidFill>
                <a:uFillTx/>
                <a:latin typeface="Arial"/>
                <a:ea typeface="楷体_GB2312"/>
              </a:rPr>
              <a:t>责任制内阁制的特点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责任内阁制为在下院大选中获胜的多数党领袖首相负责组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责任内阁制对议会和首相负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首相是国家政治生活的最高决策者和领导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755640" y="476280"/>
            <a:ext cx="763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看下列材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朝废除丞相，皇帝君临天下，直接处理国家大事，设殿阁大学士辅政，后逐渐演变为内阁，成为与六部并行的国家行政机关，内阁的最高长官称“首辅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沃尔波尔成为英国历史上第一任内阁首相，英国的内阁制形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5640" y="4508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请问：同样是“内阁”，两者有何根本区别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00000" y="1268280"/>
            <a:ext cx="748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朝——封建君主专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封建王朝加强君主专制的产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英国——君主立宪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资产阶级民主政治的产物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、英国的政党制度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353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发展演变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辉格党、托利党（资产阶级政党的雏形，轮流执政）      自由党、保守党 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世纪）        工党、保守党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世纪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年代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目的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了获得议会多数席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1979640" y="2852640"/>
            <a:ext cx="863640" cy="649440"/>
          </a:xfrm>
          <a:prstGeom prst="rightArrow">
            <a:avLst>
              <a:gd name="adj1" fmla="val 50000"/>
              <a:gd name="adj2" fmla="val 332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67640" y="2924280"/>
            <a:ext cx="863640" cy="649080"/>
          </a:xfrm>
          <a:prstGeom prst="rightArrow">
            <a:avLst>
              <a:gd name="adj1" fmla="val 50000"/>
              <a:gd name="adj2" fmla="val 3326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0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24000" y="1125360"/>
            <a:ext cx="2376360" cy="5327640"/>
            <a:chOff x="324000" y="1125360"/>
            <a:chExt cx="2376360" cy="5327640"/>
          </a:xfrm>
        </p:grpSpPr>
        <p:sp>
          <p:nvSpPr>
            <p:cNvPr id="412" name=""/>
            <p:cNvSpPr/>
            <p:nvPr/>
          </p:nvSpPr>
          <p:spPr>
            <a:xfrm>
              <a:off x="324000" y="11253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4000" y="206064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4000" y="29970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4000" y="39337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000" y="486864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000" y="58053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203640" y="98100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0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39640" y="907920"/>
            <a:ext cx="2376720" cy="5327640"/>
            <a:chOff x="539640" y="907920"/>
            <a:chExt cx="2376720" cy="5327640"/>
          </a:xfrm>
        </p:grpSpPr>
        <p:sp>
          <p:nvSpPr>
            <p:cNvPr id="422" name=""/>
            <p:cNvSpPr/>
            <p:nvPr/>
          </p:nvSpPr>
          <p:spPr>
            <a:xfrm>
              <a:off x="539640" y="90792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9640" y="184320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9640" y="277956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9640" y="371628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9640" y="4651200"/>
              <a:ext cx="237672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9640" y="5587920"/>
              <a:ext cx="237672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419640" y="907920"/>
            <a:ext cx="5472000" cy="6480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1844640"/>
            <a:ext cx="561672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19640" y="2924280"/>
            <a:ext cx="5545080" cy="361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英国资产阶级革命爆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4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国王查理一世被处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66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朝复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动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变，这次不流血的革命被称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次革命最重要成果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建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68360" y="909720"/>
            <a:ext cx="2376360" cy="5327640"/>
            <a:chOff x="468360" y="909720"/>
            <a:chExt cx="2376360" cy="5327640"/>
          </a:xfrm>
        </p:grpSpPr>
        <p:sp>
          <p:nvSpPr>
            <p:cNvPr id="434" name=""/>
            <p:cNvSpPr/>
            <p:nvPr/>
          </p:nvSpPr>
          <p:spPr>
            <a:xfrm>
              <a:off x="468360" y="9097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8360" y="18450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8360" y="27813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8360" y="37180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8360" y="46530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8360" y="55897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348000" y="98100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48000" y="191628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48000" y="285264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法律至上、有限王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419640" y="3789360"/>
            <a:ext cx="5545080" cy="205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议会起源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世纪，英国贵族在市民的支持下，发动起义，迫使国王在限制王权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签字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贵族、骑士和市民等召开会议，这就是英国议会的开端，后来议会逐渐演变成上下两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45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68360" y="907920"/>
            <a:ext cx="2376360" cy="5327640"/>
            <a:chOff x="468360" y="907920"/>
            <a:chExt cx="2376360" cy="5327640"/>
          </a:xfrm>
        </p:grpSpPr>
        <p:sp>
          <p:nvSpPr>
            <p:cNvPr id="447" name=""/>
            <p:cNvSpPr/>
            <p:nvPr/>
          </p:nvSpPr>
          <p:spPr>
            <a:xfrm>
              <a:off x="468360" y="90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8360" y="18432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8360" y="27795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8360" y="37162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理论依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8360" y="46512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8360" y="558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348000" y="98100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48000" y="191628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348000" y="285264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法律至上、有限王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48000" y="3789360"/>
            <a:ext cx="554508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启蒙思想家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58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95280" y="907920"/>
            <a:ext cx="2376360" cy="5327640"/>
            <a:chOff x="395280" y="907920"/>
            <a:chExt cx="2376360" cy="5327640"/>
          </a:xfrm>
        </p:grpSpPr>
        <p:sp>
          <p:nvSpPr>
            <p:cNvPr id="460" name=""/>
            <p:cNvSpPr/>
            <p:nvPr/>
          </p:nvSpPr>
          <p:spPr>
            <a:xfrm>
              <a:off x="395280" y="90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5280" y="18432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5280" y="27795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5280" y="37162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理论依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5280" y="46512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正式确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5280" y="558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203640" y="907920"/>
            <a:ext cx="5616360" cy="6480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184464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03640" y="278136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03640" y="371628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启蒙思想家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276720" y="4653000"/>
            <a:ext cx="561636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《权利法案》的颁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95280" y="333360"/>
            <a:ext cx="2808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：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2" name=""/>
          <p:cNvSpPr/>
          <p:nvPr/>
        </p:nvSpPr>
        <p:spPr>
          <a:xfrm>
            <a:off x="3203640" y="18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的君主立宪制是怎样形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68360" y="907920"/>
            <a:ext cx="2376360" cy="5327640"/>
            <a:chOff x="468360" y="907920"/>
            <a:chExt cx="2376360" cy="5327640"/>
          </a:xfrm>
        </p:grpSpPr>
        <p:sp>
          <p:nvSpPr>
            <p:cNvPr id="474" name=""/>
            <p:cNvSpPr/>
            <p:nvPr/>
          </p:nvSpPr>
          <p:spPr>
            <a:xfrm>
              <a:off x="468360" y="90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经济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8360" y="184320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治前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8360" y="277956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历史传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8360" y="371628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理论依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8360" y="4651200"/>
              <a:ext cx="2376360" cy="6480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正式确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8360" y="5587920"/>
              <a:ext cx="2376360" cy="6476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展完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132000" y="907920"/>
            <a:ext cx="5688000" cy="6480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3640" y="184464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的资产阶级革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03640" y="278136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资本主义经济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03640" y="378936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英国启蒙思想家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03640" y="465300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《权利法案》的颁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32000" y="5661000"/>
            <a:ext cx="5688000" cy="64764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责任内阁制和议会改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世纪中叶英国著名政治家老威廉•庇特在一次演讲中说的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在英国，由于财产权是神圣的，再贫穷的人在他的寒舍里也敢于对抗国王的权威。风可以进这所房子，雨可以进这所房子，房子甚至会在风雨中飘摇，但是国王不能踏进这所房子，国王的千军万马不敢踏进这所门槛已经破损了的破房子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在我们今天看来英国既古老而又现代，既传统而又常新，既执着地保守而又充分地自由。英国的国王制度至今仍然存在。那么国王神圣不可动摇的地位是从什么时候开始动摇的呢？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1295280" cy="865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pSp>
        <p:nvGrpSpPr>
          <p:cNvPr id="487" name=""/>
          <p:cNvGrpSpPr/>
          <p:nvPr/>
        </p:nvGrpSpPr>
        <p:grpSpPr>
          <a:xfrm>
            <a:off x="395280" y="620640"/>
            <a:ext cx="5409720" cy="5638680"/>
            <a:chOff x="395280" y="620640"/>
            <a:chExt cx="5409720" cy="5638680"/>
          </a:xfrm>
        </p:grpSpPr>
        <p:grpSp>
          <p:nvGrpSpPr>
            <p:cNvPr id="488" name=""/>
            <p:cNvGrpSpPr/>
            <p:nvPr/>
          </p:nvGrpSpPr>
          <p:grpSpPr>
            <a:xfrm>
              <a:off x="699840" y="1154160"/>
              <a:ext cx="4876560" cy="5105160"/>
              <a:chOff x="699840" y="1154160"/>
              <a:chExt cx="4876560" cy="5105160"/>
            </a:xfrm>
          </p:grpSpPr>
          <p:sp>
            <p:nvSpPr>
              <p:cNvPr id="489" name=""/>
              <p:cNvSpPr/>
              <p:nvPr/>
            </p:nvSpPr>
            <p:spPr>
              <a:xfrm>
                <a:off x="699840" y="1154160"/>
                <a:ext cx="4876560" cy="5105160"/>
              </a:xfrm>
              <a:prstGeom prst="flowChartAlternateProcess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28080" y="1763280"/>
                <a:ext cx="82836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内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468320" y="1763280"/>
                <a:ext cx="82836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国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928080" y="3422160"/>
                <a:ext cx="90288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下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68320" y="3422160"/>
                <a:ext cx="828360" cy="459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上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28080" y="5163840"/>
                <a:ext cx="4368600" cy="45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华文细黑"/>
                    <a:ea typeface="华文细黑"/>
                  </a:rPr>
                  <a:t>            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选   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44840" y="2317320"/>
                <a:ext cx="1102320" cy="1026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多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组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840920" y="2238120"/>
                <a:ext cx="546120" cy="1105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任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01040" y="4214520"/>
                <a:ext cx="546120" cy="1107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细黑"/>
                    <a:ea typeface="华文细黑"/>
                  </a:rPr>
                  <a:t>选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1304280" y="3898440"/>
                <a:ext cx="0" cy="1265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1304280" y="2316960"/>
                <a:ext cx="0" cy="1106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844520" y="2317320"/>
                <a:ext cx="0" cy="1106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1981800" y="3741480"/>
                <a:ext cx="2184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766520" y="1991880"/>
                <a:ext cx="274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3" name="" descr=""/>
            <p:cNvPicPr/>
            <p:nvPr/>
          </p:nvPicPr>
          <p:blipFill>
            <a:blip r:embed="rId2"/>
            <a:stretch/>
          </p:blipFill>
          <p:spPr>
            <a:xfrm>
              <a:off x="4052520" y="620640"/>
              <a:ext cx="1752480" cy="115884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pic>
          <p:nvPicPr>
            <p:cNvPr id="504" name="" descr=""/>
            <p:cNvPicPr/>
            <p:nvPr/>
          </p:nvPicPr>
          <p:blipFill>
            <a:blip r:embed="rId3"/>
            <a:stretch/>
          </p:blipFill>
          <p:spPr>
            <a:xfrm>
              <a:off x="1537920" y="1154160"/>
              <a:ext cx="914040" cy="6858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pic>
          <p:nvPicPr>
            <p:cNvPr id="505" name="" descr=""/>
            <p:cNvPicPr/>
            <p:nvPr/>
          </p:nvPicPr>
          <p:blipFill>
            <a:blip r:embed="rId4"/>
            <a:stretch/>
          </p:blipFill>
          <p:spPr>
            <a:xfrm>
              <a:off x="2376360" y="2982960"/>
              <a:ext cx="1599840" cy="105876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506" name=""/>
            <p:cNvSpPr/>
            <p:nvPr/>
          </p:nvSpPr>
          <p:spPr>
            <a:xfrm>
              <a:off x="2680920" y="4125960"/>
              <a:ext cx="106668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议会大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5280" y="772920"/>
              <a:ext cx="1142640" cy="307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唐宁街十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00040" y="1001520"/>
              <a:ext cx="6091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首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62160" y="1382760"/>
              <a:ext cx="10663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白金汉宫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943600" y="1752480"/>
            <a:ext cx="3200400" cy="2128320"/>
          </a:xfrm>
          <a:prstGeom prst="rect">
            <a:avLst/>
          </a:prstGeom>
          <a:solidFill>
            <a:srgbClr val="0000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君主制、民主制、贵族制三者融为一体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君主保留，但议会掌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以议会和责任内阁为核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国王临朝不理政，代表国家，是民族团结的纽带和国家统一的象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477120" y="533520"/>
            <a:ext cx="198108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英国政体结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258920" y="3860280"/>
            <a:ext cx="0" cy="12956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332000" y="2205000"/>
            <a:ext cx="0" cy="1224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63640" y="1989000"/>
            <a:ext cx="27370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59280" y="2349360"/>
            <a:ext cx="0" cy="100836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763280" y="2133720"/>
            <a:ext cx="259236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17560" y="1989000"/>
            <a:ext cx="9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幼圆"/>
              </a:rPr>
              <a:t>形式任命</a:t>
            </a:r>
            <a:r>
              <a:rPr b="1" lang="zh-CN" sz="2800" spc="-1" strike="noStrike">
                <a:solidFill>
                  <a:srgbClr val="5f0ed6"/>
                </a:solidFill>
                <a:latin typeface="Tahoma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19280" y="2276640"/>
            <a:ext cx="720720" cy="792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1763640" y="2205000"/>
            <a:ext cx="720720" cy="7192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8900000">
            <a:off x="1766880" y="2419200"/>
            <a:ext cx="4546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幼圆"/>
              </a:rPr>
              <a:t>负 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rot="19260000">
            <a:off x="2199240" y="2058840"/>
            <a:ext cx="454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幼圆"/>
              </a:rPr>
              <a:t>监 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79640" y="4941720"/>
            <a:ext cx="1584360" cy="576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民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67280" y="4005360"/>
            <a:ext cx="1657080" cy="5760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贵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683640" y="4149720"/>
            <a:ext cx="502920" cy="86364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民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19640" y="1700280"/>
            <a:ext cx="1871640" cy="5763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君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50920" y="3141720"/>
            <a:ext cx="2305080" cy="503280"/>
          </a:xfrm>
          <a:prstGeom prst="plus">
            <a:avLst>
              <a:gd name="adj" fmla="val 25000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权力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黑体"/>
                <a:ea typeface="黑体"/>
              </a:rPr>
              <a:t>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结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英国君主立宪制的建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500"/>
                            </p:stCondLst>
                            <p:childTnLst>
                              <p:par>
                                <p:cTn id="6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830920" y="6248520"/>
            <a:ext cx="3313080" cy="6094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51640" y="333360"/>
            <a:ext cx="3313080" cy="29401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24000" y="260280"/>
            <a:ext cx="52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国首相布莱尔追随美国出兵伊拉克，因而在国内饱受争议，你认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◆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内阁成员大体上是赞成还是反对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4000" y="33577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◆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女王伊丽莎白二世如果反对，布莱尔会不会为此而撤兵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4000" y="47973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◆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如果议会中大多数都极力反对，结果又会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16000" y="4292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不会。首相掌握行政大权，不对国王负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26370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赞同。集体负责，共同进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0920" y="53737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议会可以通过对政府的不信任案，要求内阁下台；内阁要么下台，要么宣布解散议会，重新选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 txBox="1"/>
            <p:nvPr/>
          </p:nvSpPr>
          <p:spPr>
            <a:xfrm>
              <a:off x="1763640" y="549360"/>
              <a:ext cx="6193080" cy="15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君主立宪制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324000" y="2637000"/>
            <a:ext cx="8569080" cy="28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2781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位英国的宪法权威人士曾说：“上下两院如果作出决定，就是把女王本人的死刑判决书送到她面前，她也不得不签字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3964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89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延伸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英国君主立宪制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1052640"/>
            <a:ext cx="835164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、大大削弱了国王的权力，议会及政府逐步掌握了治理国家的权力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保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资产阶级控制国家政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、结束了英国的封建专制制度， 使得英国走上资产阶级政治民主化的道路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促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英国资本主义的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3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、代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历史发展的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4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、影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其他国家的资产阶级制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树立了一种模式，即君主立宪制度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英国的“光荣革命”是由哪一矛盾直接激化而爆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阶级矛盾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宗教矛盾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民族矛盾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国际矛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英国的革命实际上是议会的变革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革命前是国王的议会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革命后是议会的国王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.”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这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革命前后国王地位没变，议会发生了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革命后议会和国王共同掌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革命前后议会和国王互换位置且发生质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革命只改形式未变本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下列关于英国君主立宪制的表述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正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融君主制、贵族制与民主制为一体的混合物 ②以议会内阁制为核心 ③国王有权废除任何法律 ④是资产阶级代议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①②③④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①②③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①②④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②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1689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年英国议会颁布《权利法案》的直接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阻止斯图亚特王朝复辟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限制国王的权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扩大资产阶级的政治权利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废除君主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英国国家政治生活中的最高决策者和领导者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国王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首相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上院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下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5280" y="40464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4000" y="2349360"/>
            <a:ext cx="99504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436572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16360" y="522936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08000" y="6354720"/>
            <a:ext cx="995400" cy="503280"/>
          </a:xfrm>
          <a:custGeom>
            <a:avLst/>
            <a:gdLst/>
            <a:ahLst/>
            <a:rect l="l" t="t" r="r" b="b"/>
            <a:pathLst>
              <a:path w="627" h="317">
                <a:moveTo>
                  <a:pt x="75" y="45"/>
                </a:moveTo>
                <a:cubicBezTo>
                  <a:pt x="37" y="181"/>
                  <a:pt x="0" y="317"/>
                  <a:pt x="75" y="317"/>
                </a:cubicBezTo>
                <a:cubicBezTo>
                  <a:pt x="150" y="317"/>
                  <a:pt x="437" y="90"/>
                  <a:pt x="528" y="45"/>
                </a:cubicBezTo>
                <a:cubicBezTo>
                  <a:pt x="619" y="0"/>
                  <a:pt x="611" y="52"/>
                  <a:pt x="619" y="45"/>
                </a:cubicBezTo>
                <a:cubicBezTo>
                  <a:pt x="627" y="38"/>
                  <a:pt x="581" y="7"/>
                  <a:pt x="57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5400000">
            <a:off x="7647840" y="5466600"/>
            <a:ext cx="1628640" cy="72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巩固练习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9144000" cy="69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课堂延伸一：中英两国政治制度比较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1689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79280" y="836640"/>
            <a:ext cx="8785440" cy="563976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下大小事务，皆朕一人亲理，无可旁贷。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要务分于他人，则断不可行。所以无论，朕必躬自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康熙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材料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未经议会同意，以国王权威停止法律或停止法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施之僭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力，为非法权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68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《权利法案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中英两国政治体制有何本质的不同？不同的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治体制给两国分别带来了什么样的影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250920" y="1268280"/>
          <a:ext cx="8496360" cy="4044960"/>
        </p:xfrm>
        <a:graphic>
          <a:graphicData uri="http://schemas.openxmlformats.org/drawingml/2006/table">
            <a:tbl>
              <a:tblPr/>
              <a:tblGrid>
                <a:gridCol w="1728720"/>
                <a:gridCol w="3887640"/>
                <a:gridCol w="2880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英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国  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  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政党制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立法机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行政机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国家元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4" name=""/>
          <p:cNvSpPr/>
          <p:nvPr/>
        </p:nvSpPr>
        <p:spPr>
          <a:xfrm>
            <a:off x="2627280" y="1916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人民民主专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83800" y="249228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人民代表大会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共和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0920" y="31417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中共领导下的多党合作和政治协商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755080" y="37162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  <a:ea typeface="黑体"/>
              </a:rPr>
              <a:t>全国人民代表大会及其常务委员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94200" y="42210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国务院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总理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87640" y="479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国家主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12000" y="19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资产阶级专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3600" y="249228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君主立宪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君主制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940360" y="3068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两党制</a:t>
            </a: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000099"/>
                </a:solidFill>
                <a:latin typeface="黑体"/>
                <a:ea typeface="黑体"/>
              </a:rPr>
              <a:t>保守党、工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659640" y="364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议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56360" y="4221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内阁（首相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797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国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las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22477" y="10800"/>
                </a:moveTo>
                <a:lnTo>
                  <a:pt x="11971" y="17806"/>
                </a:lnTo>
                <a:lnTo>
                  <a:pt x="11971" y="3794"/>
                </a:lnTo>
                <a:close/>
              </a:path>
              <a:path fill="darken" w="37955" h="21600">
                <a:moveTo>
                  <a:pt x="24322" y="3794"/>
                </a:moveTo>
                <a:lnTo>
                  <a:pt x="24322" y="17806"/>
                </a:lnTo>
                <a:lnTo>
                  <a:pt x="25984" y="17806"/>
                </a:lnTo>
                <a:lnTo>
                  <a:pt x="25984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课堂延伸一：中英两国政治制度比较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年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82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900" spc="-1" strike="noStrike">
                <a:solidFill>
                  <a:srgbClr val="000099"/>
                </a:solidFill>
                <a:latin typeface="黑体"/>
                <a:ea typeface="黑体"/>
              </a:rPr>
              <a:t>第二次世界大战期间，英国首相丘吉尔对美国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99"/>
                </a:solidFill>
                <a:latin typeface="黑体"/>
                <a:ea typeface="黑体"/>
              </a:rPr>
              <a:t>总统罗斯福说：“</a:t>
            </a: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总统先生，人们关心的是你在何种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程度上不经国会批准而能采取行动，而你不必为内阁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所困扰。而另外一方面，我从不为内阁所困扰，但我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 u="sng">
                <a:solidFill>
                  <a:srgbClr val="cc0066"/>
                </a:solidFill>
                <a:uFillTx/>
                <a:latin typeface="黑体"/>
                <a:ea typeface="黑体"/>
              </a:rPr>
              <a:t>事事都得与我的内阁商量并获得内阁的支持</a:t>
            </a:r>
            <a:r>
              <a:rPr b="1" lang="zh-CN" sz="2900" spc="-1" strike="noStrike">
                <a:solidFill>
                  <a:srgbClr val="cc0066"/>
                </a:solidFill>
                <a:latin typeface="黑体"/>
                <a:ea typeface="黑体"/>
              </a:rPr>
              <a:t>。</a:t>
            </a:r>
            <a:r>
              <a:rPr b="1" lang="zh-CN" sz="2900" spc="-1" strike="noStrike">
                <a:solidFill>
                  <a:srgbClr val="000099"/>
                </a:solidFill>
                <a:latin typeface="黑体"/>
                <a:ea typeface="黑体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美两国一贯关系密切，文化和传统上更是同根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源，但在政治制度上却有许多相异之处，预习第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，试以</a:t>
            </a:r>
            <a:r>
              <a:rPr b="1" lang="zh-CN" sz="29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“英美政治制度之比较”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题，设计表格来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当今英国、美国的资产阶级民主政治制度的差异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课堂延伸二：当今英美两国政治制度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8172360" y="83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当今世界上除英国以外</a:t>
            </a:r>
            <a:r>
              <a:rPr b="0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还有哪些国家实行君主立宪制</a:t>
            </a:r>
            <a:r>
              <a:rPr b="0" lang="zh-CN" sz="3900" spc="-1" strike="noStrike">
                <a:solidFill>
                  <a:srgbClr val="000099"/>
                </a:solidFill>
                <a:latin typeface="黑体"/>
                <a:ea typeface="黑体"/>
              </a:rPr>
              <a:t>?</a:t>
            </a:r>
            <a:endParaRPr b="0" lang="en-US" sz="39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152360" cy="10065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826920" y="3141720"/>
            <a:ext cx="7777440" cy="29131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24000" y="2637000"/>
            <a:ext cx="8640720" cy="411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目前世界上的君主立宪制国家一般认为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欧洲：英国、挪威、瑞典、丹麦、荷兰、比利时、卢森堡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班牙、安道尔、摩纳哥、列支敦士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亚洲：日本、柬埔寨、泰国、马来西亚、尼泊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非洲：毛里求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洲：加拿大、巴哈马、安提瓜和巴布达、巴巴多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伯利兹、圣克里斯多福与尼维斯、圣卢西亚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圣文森特和格林纳丁斯、格林纳达、牙买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洋洲：澳大利亚、新西兰、巴布亚新几内亚、图瓦卢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罗门群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63640" y="476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 Black"/>
                <a:ea typeface="楷体_GB2312"/>
              </a:rPr>
              <a:t>你知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5"/>
          <a:stretch/>
        </p:blipFill>
        <p:spPr>
          <a:xfrm>
            <a:off x="7667640" y="333360"/>
            <a:ext cx="1247760" cy="1828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2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0" lang="zh-CN" sz="4400" spc="-1" strike="noStrike">
                <a:solidFill>
                  <a:srgbClr val="0033cc"/>
                </a:solidFill>
                <a:latin typeface="Comic Sans MS"/>
              </a:rPr>
              <a:t>光荣革命”的意义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光荣革命”实现了资产阶级掌握政权的愿望，它推翻了封建专制的君主制，以后 确立了君主立宪制，为英国资本主义经济发展和资本主义政治、经济制度的建立开辟了道路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>
            <a:hlinkClick r:id="rId2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42920" y="548496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伊丽莎白一世 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Elizabeth 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(1533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～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160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24360" y="5484960"/>
            <a:ext cx="27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伊丽莎白二世 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Elizabeth II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(1926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～  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72280" y="1335240"/>
            <a:ext cx="3363840" cy="4038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55640" y="1268280"/>
            <a:ext cx="3306600" cy="4104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55640" y="5013360"/>
            <a:ext cx="3311640" cy="39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铎王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72280" y="4975200"/>
            <a:ext cx="3376440" cy="397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莎王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课后查找资料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样是女王，两位伊丽莎白女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权力大小上有多大的差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284720" y="2565360"/>
            <a:ext cx="971640" cy="1268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33cc"/>
                </a:solidFill>
                <a:uFillTx/>
                <a:latin typeface="Comic Sans MS"/>
              </a:rPr>
              <a:t>英国资产阶级革命的背景：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Comic Sans MS"/>
              </a:rPr>
              <a:t>、英国资本主义的发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新航路开辟后，英国处于大西洋航运的中心线上，海外活动更加便利。英国积极开拓海外贸易，资本主义兴起和发展起来。在资本主义发展的过程中，资产阶级和新贵族的实力不断加强，他们同代表旧的生产关系的封建专制制度的矛盾越来越尖锐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、斯图亚特王朝的专制统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看书：统治者、专制表现、影响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>
            <a:hlinkClick r:id="rId2" action="ppaction://hlinksldjump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3631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11786" y="3794"/>
                </a:lnTo>
                <a:lnTo>
                  <a:pt x="11786" y="17806"/>
                </a:lnTo>
                <a:lnTo>
                  <a:pt x="1012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462880" cy="13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单元  近代西方资本主义政治制度的确立与发展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         第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课 英国君主立宪制的建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908000" y="3141720"/>
            <a:ext cx="5783400" cy="2881080"/>
            <a:chOff x="1908000" y="3141720"/>
            <a:chExt cx="5783400" cy="28810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1908000" y="3141720"/>
              <a:ext cx="2360520" cy="28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5148000" y="3141720"/>
              <a:ext cx="2543400" cy="28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250920" y="1628640"/>
            <a:ext cx="8682120" cy="15562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stablish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itutional Monarchy System in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5280" y="620640"/>
            <a:ext cx="352728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探究一：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4762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君主立宪制的含义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0" y="0"/>
            <a:ext cx="9144000" cy="4739040"/>
            <a:chOff x="0" y="0"/>
            <a:chExt cx="9144000" cy="4739040"/>
          </a:xfrm>
        </p:grpSpPr>
        <p:sp>
          <p:nvSpPr>
            <p:cNvPr id="258" name=""/>
            <p:cNvSpPr/>
            <p:nvPr/>
          </p:nvSpPr>
          <p:spPr>
            <a:xfrm>
              <a:off x="0" y="0"/>
              <a:ext cx="9144000" cy="47390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材料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                  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新华网伦敦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2001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年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月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8</a:t>
              </a:r>
              <a:r>
                <a:rPr b="1" lang="zh-CN" sz="32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日电</a:t>
              </a:r>
              <a:r>
                <a:rPr b="1" lang="zh-CN" sz="2800" spc="-1" strike="noStrike">
                  <a:solidFill>
                    <a:srgbClr val="3333cc"/>
                  </a:solidFill>
                  <a:latin typeface="华文宋体"/>
                  <a:ea typeface="华文宋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根据英国官方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公布的选举结果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执政党工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在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举行的全国大选中以绝对优势获胜，工党领袖布莱尔连任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英国首相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上午，布莱尔前往白金汉宫拜见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女王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，并接受女王对他组建新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内阁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的授权。布莱尔将在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8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日晚些时候宣布新内阁成员名单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本次大选共有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3294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名候选人参加英国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议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下院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659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的角逐。在目前已公布的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640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选区中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工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获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413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保守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获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165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，</a:t>
              </a:r>
              <a:r>
                <a:rPr b="1" lang="zh-CN" sz="2800" spc="-1" strike="noStrike">
                  <a:solidFill>
                    <a:srgbClr val="ff0000"/>
                  </a:solidFill>
                  <a:latin typeface="华文宋体"/>
                  <a:ea typeface="华文宋体"/>
                </a:rPr>
                <a:t>自由党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获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52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宋体"/>
                  <a:ea typeface="华文宋体"/>
                </a:rPr>
                <a:t>个议席。保守党领袖黑格承认竞选失败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布莱尔赢得英国大选(组图)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1873080" cy="12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6300720" y="1916280"/>
            <a:ext cx="2232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2349360"/>
            <a:ext cx="864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2852640"/>
            <a:ext cx="176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3429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3860640"/>
            <a:ext cx="37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4869000"/>
            <a:ext cx="633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530064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rcRect l="19049" t="0" r="23811" b="17774"/>
          <a:stretch/>
        </p:blipFill>
        <p:spPr>
          <a:xfrm>
            <a:off x="250920" y="260280"/>
            <a:ext cx="1873080" cy="1266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68360" y="1628640"/>
            <a:ext cx="84247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国首相布莱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在最后一次前往英国议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接受议员提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后，向英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女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丽莎白二世正式递交辞呈，从而宣告结束自己长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的首相生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英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执政党工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任领袖布朗２７日下午应英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女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丽莎白二世的邀请前往白金汉宫，接受女王授权组建新一届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内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从女王手中接受御玺，正式就任英国首相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3280" y="62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27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日电 新华网消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2708280"/>
            <a:ext cx="2232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59280" y="27813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386064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01080" y="3860640"/>
            <a:ext cx="647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4292640"/>
            <a:ext cx="2232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900000" y="4653000"/>
            <a:ext cx="251964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50920" y="26028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女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Qu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285264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阁首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Prime 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407664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议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537372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工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Labor 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484280"/>
            <a:ext cx="3168720" cy="106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Cabi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084720" y="476280"/>
            <a:ext cx="2808360" cy="5839200"/>
            <a:chOff x="6084720" y="476280"/>
            <a:chExt cx="2808360" cy="5839200"/>
          </a:xfrm>
        </p:grpSpPr>
        <p:sp>
          <p:nvSpPr>
            <p:cNvPr id="282" name=""/>
            <p:cNvSpPr/>
            <p:nvPr/>
          </p:nvSpPr>
          <p:spPr>
            <a:xfrm>
              <a:off x="6084720" y="3213000"/>
              <a:ext cx="27781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国家元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84720" y="5734080"/>
              <a:ext cx="280836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国家权力中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84720" y="476280"/>
              <a:ext cx="28069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政府首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84720" y="1844640"/>
              <a:ext cx="27781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执政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84720" y="4508640"/>
              <a:ext cx="27781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8000"/>
                  </a:solidFill>
                  <a:latin typeface="Arial"/>
                  <a:ea typeface="黑体"/>
                </a:rPr>
                <a:t>国家政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3492360" y="2204640"/>
            <a:ext cx="2519640" cy="374508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64000" y="4653000"/>
            <a:ext cx="2448000" cy="144000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492360" y="765000"/>
            <a:ext cx="2519640" cy="259272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92360" y="836640"/>
            <a:ext cx="2519640" cy="266364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2360" y="2133720"/>
            <a:ext cx="2519640" cy="2663640"/>
          </a:xfrm>
          <a:prstGeom prst="line">
            <a:avLst/>
          </a:prstGeom>
          <a:ln w="507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558972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（它）们是如何产生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别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哪些权力或者职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79280" y="404640"/>
            <a:ext cx="3528720" cy="4740840"/>
            <a:chOff x="179280" y="404640"/>
            <a:chExt cx="3528720" cy="4740840"/>
          </a:xfrm>
        </p:grpSpPr>
        <p:sp>
          <p:nvSpPr>
            <p:cNvPr id="295" name=""/>
            <p:cNvSpPr/>
            <p:nvPr/>
          </p:nvSpPr>
          <p:spPr>
            <a:xfrm>
              <a:off x="179280" y="2852640"/>
              <a:ext cx="347400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内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Cabin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9280" y="404640"/>
              <a:ext cx="344916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女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Quee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9280" y="1628640"/>
              <a:ext cx="347400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议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Parlia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9280" y="4076640"/>
              <a:ext cx="3528720" cy="1068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内阁首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Prime minis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659640" y="404640"/>
            <a:ext cx="2160360" cy="4751280"/>
            <a:chOff x="6659640" y="404640"/>
            <a:chExt cx="2160360" cy="47512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6659640" y="2033640"/>
              <a:ext cx="2160360" cy="1425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6659640" y="404640"/>
              <a:ext cx="2123640" cy="1451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302" name="" descr=""/>
            <p:cNvPicPr/>
            <p:nvPr/>
          </p:nvPicPr>
          <p:blipFill>
            <a:blip r:embed="rId4"/>
            <a:stretch/>
          </p:blipFill>
          <p:spPr>
            <a:xfrm>
              <a:off x="6659640" y="3664440"/>
              <a:ext cx="2160360" cy="1491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303" name=""/>
          <p:cNvGrpSpPr/>
          <p:nvPr/>
        </p:nvGrpSpPr>
        <p:grpSpPr>
          <a:xfrm>
            <a:off x="3780000" y="692280"/>
            <a:ext cx="2736720" cy="4181760"/>
            <a:chOff x="3780000" y="692280"/>
            <a:chExt cx="2736720" cy="4181760"/>
          </a:xfrm>
        </p:grpSpPr>
        <p:sp>
          <p:nvSpPr>
            <p:cNvPr id="304" name=""/>
            <p:cNvSpPr/>
            <p:nvPr/>
          </p:nvSpPr>
          <p:spPr>
            <a:xfrm>
              <a:off x="4068720" y="4292640"/>
              <a:ext cx="208728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政府首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8720" y="3141720"/>
              <a:ext cx="194256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国家政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80000" y="1989000"/>
              <a:ext cx="27367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国家权力中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68720" y="692280"/>
              <a:ext cx="194256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国家元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524720" y="5445000"/>
            <a:ext cx="1619280" cy="1413000"/>
            <a:chOff x="7524720" y="5445000"/>
            <a:chExt cx="1619280" cy="1413000"/>
          </a:xfrm>
        </p:grpSpPr>
        <p:pic>
          <p:nvPicPr>
            <p:cNvPr id="309" name="" descr=""/>
            <p:cNvPicPr/>
            <p:nvPr/>
          </p:nvPicPr>
          <p:blipFill>
            <a:blip r:embed="rId5"/>
            <a:stretch/>
          </p:blipFill>
          <p:spPr>
            <a:xfrm>
              <a:off x="7524720" y="5445000"/>
              <a:ext cx="161928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 txBox="1"/>
            <p:nvPr/>
          </p:nvSpPr>
          <p:spPr>
            <a:xfrm>
              <a:off x="7763760" y="5548680"/>
              <a:ext cx="1198800" cy="418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ccffff"/>
                    </a:solidFill>
                    <a:miter/>
                  </a:ln>
                  <a:solidFill>
                    <a:srgbClr val="0080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思考</a:t>
              </a:r>
              <a:endParaRPr b="1" lang="en-US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7:05:20Z</dcterms:created>
  <dc:creator>ljc</dc:creator>
  <dc:description/>
  <dc:language>en-US</dc:language>
  <cp:lastModifiedBy>微软中国</cp:lastModifiedBy>
  <dcterms:modified xsi:type="dcterms:W3CDTF">2007-09-05T01:54:05Z</dcterms:modified>
  <cp:revision>5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