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BE7E-3AA8-4839-A0F3-137DED3D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C89-09F6-4AFA-9C55-D86D9E7D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EF0E-A3EB-40C5-BF7C-94CB840C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E11-2B33-4D0E-AFE4-37523AB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A8B-36F5-414B-8F22-A1F79A1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406-E323-4AC9-8ED6-9AFA7A08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0B2-1803-4DC5-8BB5-F7A2844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517-BFBB-4E05-A2D1-07D631A7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C97-6A46-4408-BDDB-85824A52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EDC-09B7-490A-9897-3737D70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303-88DB-4DB8-BAF2-69EB34C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276-123C-4D4D-B76F-208D734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E5AC-F691-48AA-AF14-9537A4416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35,20,&#24187;&#28783;&#29255; 20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1vip.com.cn/book_category.php?catid=8&amp;subcat=7&amp;page=3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chinage.net/Art/Article_125.htm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teacher.yb2hs.com.cn/bigcow/china_pic/content/d/1/1a/34.htm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web.mmyz.net/cyq/Article_Print.asp?ArticleID=505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877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秦朝（形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6900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两汉（巩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48000" y="4686480"/>
            <a:ext cx="4371120" cy="914400"/>
            <a:chOff x="2448000" y="4686480"/>
            <a:chExt cx="4371120" cy="914400"/>
          </a:xfrm>
        </p:grpSpPr>
        <p:sp>
          <p:nvSpPr>
            <p:cNvPr id="44" name=""/>
            <p:cNvSpPr/>
            <p:nvPr/>
          </p:nvSpPr>
          <p:spPr>
            <a:xfrm>
              <a:off x="4735440" y="4686480"/>
              <a:ext cx="75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中央：</a:t>
              </a: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汉武帝重用亲信担任尚书令、侍中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38440" y="5202000"/>
              <a:ext cx="328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地方：</a:t>
              </a:r>
              <a:r>
                <a:rPr b="1" lang="zh-CN" sz="2000" spc="-1" strike="noStrike">
                  <a:solidFill>
                    <a:srgbClr val="cc3300"/>
                  </a:solidFill>
                  <a:latin typeface="Arial"/>
                </a:rPr>
                <a:t>汉武帝颁布“推恩令”，中央集权加强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48000" y="4817880"/>
              <a:ext cx="144360" cy="57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79280" y="393372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隋唐（完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98900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元（新发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2924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宋朝（加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11280" y="2637000"/>
            <a:ext cx="5068800" cy="926640"/>
            <a:chOff x="2411280" y="2637000"/>
            <a:chExt cx="5068800" cy="926640"/>
          </a:xfrm>
        </p:grpSpPr>
        <p:sp>
          <p:nvSpPr>
            <p:cNvPr id="51" name=""/>
            <p:cNvSpPr/>
            <p:nvPr/>
          </p:nvSpPr>
          <p:spPr>
            <a:xfrm>
              <a:off x="2411280" y="2777400"/>
              <a:ext cx="146160" cy="728280"/>
            </a:xfrm>
            <a:custGeom>
              <a:avLst/>
              <a:gdLst>
                <a:gd name="textAreaLeft" fmla="*/ 93600 w 146160"/>
                <a:gd name="textAreaRight" fmla="*/ 146520 w 146160"/>
                <a:gd name="textAreaTop" fmla="*/ 18720 h 728280"/>
                <a:gd name="textAreaBottom" fmla="*/ 709560 h 72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30160" y="2637000"/>
              <a:ext cx="484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中央：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书门下；增设参知政事、枢密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和三司使，分割相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94120" y="316476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Arial"/>
                  <a:ea typeface="隶书"/>
                </a:rPr>
                <a:t>地方：把军事、行政、财政权力收归中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79280" y="981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明清（顶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448000" y="716040"/>
            <a:ext cx="2646720" cy="1096560"/>
            <a:chOff x="2448000" y="716040"/>
            <a:chExt cx="2646720" cy="1096560"/>
          </a:xfrm>
        </p:grpSpPr>
        <p:sp>
          <p:nvSpPr>
            <p:cNvPr id="56" name=""/>
            <p:cNvSpPr/>
            <p:nvPr/>
          </p:nvSpPr>
          <p:spPr>
            <a:xfrm>
              <a:off x="4750920" y="7160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明：废除宰相制度、设立内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6160" y="129204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清：设南书房、设立军机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8000" y="981000"/>
              <a:ext cx="71640" cy="576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374920" y="5502240"/>
            <a:ext cx="2447640" cy="1384200"/>
            <a:chOff x="2374920" y="5502240"/>
            <a:chExt cx="2447640" cy="1384200"/>
          </a:xfrm>
        </p:grpSpPr>
        <p:grpSp>
          <p:nvGrpSpPr>
            <p:cNvPr id="60" name=""/>
            <p:cNvGrpSpPr/>
            <p:nvPr/>
          </p:nvGrpSpPr>
          <p:grpSpPr>
            <a:xfrm>
              <a:off x="2374920" y="5502240"/>
              <a:ext cx="2447640" cy="1384200"/>
              <a:chOff x="2374920" y="5502240"/>
              <a:chExt cx="2447640" cy="1384200"/>
            </a:xfrm>
          </p:grpSpPr>
          <p:sp>
            <p:nvSpPr>
              <p:cNvPr id="61" name=""/>
              <p:cNvSpPr/>
              <p:nvPr/>
            </p:nvSpPr>
            <p:spPr>
              <a:xfrm>
                <a:off x="2374920" y="5811840"/>
                <a:ext cx="271800" cy="795240"/>
              </a:xfrm>
              <a:custGeom>
                <a:avLst/>
                <a:gdLst>
                  <a:gd name="textAreaLeft" fmla="*/ 173880 w 271800"/>
                  <a:gd name="textAreaRight" fmla="*/ 272160 w 271800"/>
                  <a:gd name="textAreaTop" fmla="*/ 20520 h 795240"/>
                  <a:gd name="textAreaBottom" fmla="*/ 774720 h 79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46720" y="5502240"/>
                <a:ext cx="202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皇帝制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73000" y="5934240"/>
                <a:ext cx="2149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三公九卿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37080" y="6365880"/>
                <a:ext cx="157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郡县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519280" y="5688000"/>
              <a:ext cx="71640" cy="98100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81000"/>
                <a:gd name="textAreaBottom" fmla="*/ 95544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74920" y="3645000"/>
            <a:ext cx="5687640" cy="833400"/>
            <a:chOff x="2374920" y="3645000"/>
            <a:chExt cx="5687640" cy="833400"/>
          </a:xfrm>
        </p:grpSpPr>
        <p:grpSp>
          <p:nvGrpSpPr>
            <p:cNvPr id="67" name=""/>
            <p:cNvGrpSpPr/>
            <p:nvPr/>
          </p:nvGrpSpPr>
          <p:grpSpPr>
            <a:xfrm>
              <a:off x="2374920" y="3645000"/>
              <a:ext cx="5687640" cy="833400"/>
              <a:chOff x="2374920" y="3645000"/>
              <a:chExt cx="5687640" cy="833400"/>
            </a:xfrm>
          </p:grpSpPr>
          <p:sp>
            <p:nvSpPr>
              <p:cNvPr id="68" name=""/>
              <p:cNvSpPr/>
              <p:nvPr/>
            </p:nvSpPr>
            <p:spPr>
              <a:xfrm>
                <a:off x="2374920" y="3811320"/>
                <a:ext cx="154800" cy="576000"/>
              </a:xfrm>
              <a:custGeom>
                <a:avLst/>
                <a:gdLst>
                  <a:gd name="textAreaLeft" fmla="*/ 99000 w 154800"/>
                  <a:gd name="textAreaRight" fmla="*/ 155160 w 154800"/>
                  <a:gd name="textAreaTop" fmla="*/ 14760 h 576000"/>
                  <a:gd name="textAreaBottom" fmla="*/ 561240 h 57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24680" y="3645000"/>
                <a:ext cx="286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央：三省六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29720" y="4079520"/>
                <a:ext cx="553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地方：加强统治；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期后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</a:rPr>
                  <a:t>藩镇割据局面削弱了中央集权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446200" y="3860640"/>
              <a:ext cx="72720" cy="57636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374920" y="1773360"/>
            <a:ext cx="5111280" cy="891360"/>
            <a:chOff x="2374920" y="1773360"/>
            <a:chExt cx="5111280" cy="891360"/>
          </a:xfrm>
        </p:grpSpPr>
        <p:grpSp>
          <p:nvGrpSpPr>
            <p:cNvPr id="73" name=""/>
            <p:cNvGrpSpPr/>
            <p:nvPr/>
          </p:nvGrpSpPr>
          <p:grpSpPr>
            <a:xfrm>
              <a:off x="2374920" y="1773360"/>
              <a:ext cx="5111280" cy="891360"/>
              <a:chOff x="2374920" y="1773360"/>
              <a:chExt cx="5111280" cy="891360"/>
            </a:xfrm>
          </p:grpSpPr>
          <p:sp>
            <p:nvSpPr>
              <p:cNvPr id="74" name=""/>
              <p:cNvSpPr/>
              <p:nvPr/>
            </p:nvSpPr>
            <p:spPr>
              <a:xfrm>
                <a:off x="2520000" y="2205000"/>
                <a:ext cx="496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地方：实行行省制度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533680" y="1773360"/>
                <a:ext cx="294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中央：设中书省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74920" y="2008440"/>
                <a:ext cx="158760" cy="504720"/>
              </a:xfrm>
              <a:custGeom>
                <a:avLst/>
                <a:gdLst>
                  <a:gd name="textAreaLeft" fmla="*/ 101520 w 158760"/>
                  <a:gd name="textAreaRight" fmla="*/ 159120 w 158760"/>
                  <a:gd name="textAreaTop" fmla="*/ 12960 h 504720"/>
                  <a:gd name="textAreaBottom" fmla="*/ 49176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2446200" y="1989000"/>
              <a:ext cx="70920" cy="57636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477720" y="44280"/>
            <a:ext cx="3086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温故知新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77080" y="981000"/>
            <a:ext cx="2448000" cy="5507280"/>
            <a:chOff x="6877080" y="981000"/>
            <a:chExt cx="2448000" cy="5507280"/>
          </a:xfrm>
        </p:grpSpPr>
        <p:sp>
          <p:nvSpPr>
            <p:cNvPr id="80" name=""/>
            <p:cNvSpPr/>
            <p:nvPr/>
          </p:nvSpPr>
          <p:spPr>
            <a:xfrm>
              <a:off x="6948360" y="5784840"/>
              <a:ext cx="237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地方分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67640" y="4292640"/>
              <a:ext cx="792000" cy="1449360"/>
            </a:xfrm>
            <a:prstGeom prst="upArrow">
              <a:avLst>
                <a:gd name="adj1" fmla="val 50000"/>
                <a:gd name="adj2" fmla="val 4575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集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77080" y="3375000"/>
              <a:ext cx="23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中央集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96360" y="1844640"/>
              <a:ext cx="863280" cy="1541520"/>
            </a:xfrm>
            <a:prstGeom prst="upArrow">
              <a:avLst>
                <a:gd name="adj1" fmla="val 50000"/>
                <a:gd name="adj2" fmla="val 4464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集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0360" y="98100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皇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98560" y="4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（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3</a:t>
            </a: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）内阁的性质特点：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484280"/>
            <a:ext cx="83516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①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明朝内阁始终不是法定的中央一级的行政机构或决策机构，只是为皇帝提供顾问的内侍机构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②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阁臣的升降由皇帝决定，职权的大小依皇帝旨意而定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③</a:t>
            </a:r>
            <a:r>
              <a:rPr b="0" lang="zh-CN" sz="4000" spc="-1" strike="noStrike">
                <a:solidFill>
                  <a:srgbClr val="993300"/>
                </a:solidFill>
                <a:latin typeface="黑体"/>
                <a:ea typeface="黑体"/>
              </a:rPr>
              <a:t>票拟是否被采纳最终还得取决于皇帝的批红。</a:t>
            </a:r>
            <a:r>
              <a:rPr b="0" lang="zh-CN" sz="2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73360" y="2610000"/>
            <a:ext cx="566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什么说清朝军机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设置，使君主专制制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展到了顶峰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000" y="12528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清朝：君主专制的巅峰时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2133720"/>
            <a:ext cx="8893440" cy="28033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清朝作为少数民族建立的政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君主专制发展到顶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经历了怎样的过程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2205000"/>
            <a:ext cx="223200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八旗旗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共治国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205000"/>
            <a:ext cx="230364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议政王大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阁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六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皇权受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2205000"/>
            <a:ext cx="216072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议政王大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臣会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阁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、六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南书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集权于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205000"/>
            <a:ext cx="1908000" cy="424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0" lang="zh-CN" sz="32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  <a:hlinkClick r:id="rId2"/>
              </a:rPr>
              <a:t>军机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跪受笔录承旨遵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君主专制顶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84360" y="1341360"/>
            <a:ext cx="2303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皇太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0920" y="1341360"/>
            <a:ext cx="2089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康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29440" y="1341360"/>
            <a:ext cx="1835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雍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-1764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二、清朝：君主专制的巅峰时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280" y="1341360"/>
            <a:ext cx="226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努尔哈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237360"/>
            <a:ext cx="539640" cy="333360"/>
          </a:xfrm>
          <a:custGeom>
            <a:avLst/>
            <a:gdLst>
              <a:gd name="textAreaLeft" fmla="*/ 222480 w 539640"/>
              <a:gd name="textAreaRight" fmla="*/ 317160 w 539640"/>
              <a:gd name="textAreaTop" fmla="*/ 137160 h 333360"/>
              <a:gd name="textAreaBottom" fmla="*/ 1962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军机处和议政王大臣会议的区别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03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机处没有议政王大臣会议那样的决定权。军机处实际上只是皇帝的一个亲信秘书班子，军国大事全凭皇帝裁决，军机大臣只能惟命是从，负责往下传达，连建议的权力也没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从中央各部到地方军政首脑，实际上都直接听从皇帝的指挥。至此，不仅内阁形同虚设，议政王大臣会议也名存实亡，皇权得以大大加强。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标志着我国的封建君主专制主义中央集权制度达到顶峰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59600" y="1484280"/>
            <a:ext cx="5934240" cy="48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说，中国到目前为止，一共失去了三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赶世界的历史性机遇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次，是明清时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第一次被西方落下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次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戌变法和辛亥革命时期，中国以改革和革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失败而错失良机；第三次是文化大革命期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的内乱和封闭，使中国离世界越来越远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革开放以来的中国，正在抓住第四次机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能否赶上世界？对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说，很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4360" y="333360"/>
            <a:ext cx="3390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观点导航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9640" y="320760"/>
            <a:ext cx="81234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三、绝对君主专制的消极影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324080"/>
            <a:ext cx="820872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专制政体是既无法律又无规章，由单独一个人按照一己的意志与反复无常的性情领导一切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当立法权和行政权集中在同一个人或同一个机关之手，自由便不复存在了……如果司法权不同立法权和行政权分立，自由也就不存在了。”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孟德斯鸠《论法的精神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69280" y="566748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提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：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皇帝决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官场风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官僚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1413000"/>
            <a:ext cx="8209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皇帝决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具有独断性、随意性，易出现失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官场风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使官吏唯上是从，助长因循守旧之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官僚机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文鼎新艺体简"/>
              </a:rPr>
              <a:t>：使官僚机构膨胀，导致官僚主义、贪污腐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27792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明清绝对君主专制的消极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8000" y="4653000"/>
            <a:ext cx="8964720" cy="20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结论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绝对君主专制违背了世界发展潮流，极大地妨碍了中国社会的进步和资本主义萌芽的成长，中国的发展开始大大落后于西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125360"/>
            <a:ext cx="367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西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9720" y="2805120"/>
            <a:ext cx="3702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1689120"/>
            <a:ext cx="4757760" cy="1097280"/>
            <a:chOff x="1066680" y="1689120"/>
            <a:chExt cx="4757760" cy="1097280"/>
          </a:xfrm>
        </p:grpSpPr>
        <p:sp>
          <p:nvSpPr>
            <p:cNvPr id="150" name=""/>
            <p:cNvSpPr/>
            <p:nvPr/>
          </p:nvSpPr>
          <p:spPr>
            <a:xfrm>
              <a:off x="1066680" y="1841400"/>
              <a:ext cx="228600" cy="851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1760" y="1689120"/>
              <a:ext cx="4522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资本主义民主制度建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1760" y="2298600"/>
              <a:ext cx="40906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工业化进程起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95480" y="3344760"/>
            <a:ext cx="4254480" cy="1030680"/>
            <a:chOff x="1095480" y="3344760"/>
            <a:chExt cx="4254480" cy="1030680"/>
          </a:xfrm>
        </p:grpSpPr>
        <p:sp>
          <p:nvSpPr>
            <p:cNvPr id="154" name=""/>
            <p:cNvSpPr/>
            <p:nvPr/>
          </p:nvSpPr>
          <p:spPr>
            <a:xfrm>
              <a:off x="1095480" y="3493800"/>
              <a:ext cx="228600" cy="85104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1960 h 851040"/>
                <a:gd name="textAreaBottom" fmla="*/ 82908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0560" y="3344760"/>
              <a:ext cx="3585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君主专制强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0560" y="3887640"/>
              <a:ext cx="4019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01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然经济占主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334120" y="1989000"/>
            <a:ext cx="2089080" cy="731520"/>
            <a:chOff x="5334120" y="1989000"/>
            <a:chExt cx="2089080" cy="731520"/>
          </a:xfrm>
        </p:grpSpPr>
        <p:sp>
          <p:nvSpPr>
            <p:cNvPr id="158" name=""/>
            <p:cNvSpPr/>
            <p:nvPr/>
          </p:nvSpPr>
          <p:spPr>
            <a:xfrm>
              <a:off x="6054840" y="1989000"/>
              <a:ext cx="13683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进步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4120" y="227664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62560" y="3498840"/>
            <a:ext cx="2089080" cy="731520"/>
            <a:chOff x="5362560" y="3498840"/>
            <a:chExt cx="2089080" cy="731520"/>
          </a:xfrm>
        </p:grpSpPr>
        <p:sp>
          <p:nvSpPr>
            <p:cNvPr id="161" name=""/>
            <p:cNvSpPr/>
            <p:nvPr/>
          </p:nvSpPr>
          <p:spPr>
            <a:xfrm>
              <a:off x="6083280" y="3498840"/>
              <a:ext cx="13683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落后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62560" y="3747960"/>
              <a:ext cx="647640" cy="289080"/>
            </a:xfrm>
            <a:prstGeom prst="rightArrow">
              <a:avLst>
                <a:gd name="adj1" fmla="val 50000"/>
                <a:gd name="adj2" fmla="val 5600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0840" y="2286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东西方拉开差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0"/>
            <a:ext cx="36716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挑战自己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65" name=""/>
          <p:cNvSpPr/>
          <p:nvPr/>
        </p:nvSpPr>
        <p:spPr>
          <a:xfrm>
            <a:off x="1569600" y="1012680"/>
            <a:ext cx="651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明太祖废除丞相的根本原因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加强专制皇权的需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部全力扩大后，宰相已经形同虚设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丞相胡惟庸阴谋篡权所致   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皇帝要在臣民中树立“勤政”的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重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废除丞相制度以后， 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朝在皇帝和六部之间逐步建立的官制是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司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枢密院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阁  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军机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432600">
            <a:off x="324000" y="5805000"/>
            <a:ext cx="114120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1432600">
            <a:off x="468360" y="1483920"/>
            <a:ext cx="114120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241200"/>
            <a:ext cx="87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清朝军机处的设置，加强了皇权，其表现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皇帝的谕旨可以迅速传达到中央各部和地方官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军政大权完全集中到皇帝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机大臣掌握了国家最高决策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避免了皇帝决策的失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①②③     B  ①②④    C. ①②    D. ①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中央集权制度在我国封建社会后期（明清时期）消极因素逐步增大，主要在于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激化了阶级矛盾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现宦官专权的局面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统治集团内部争权夺利斗争激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大地妨碍社会的进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1432600">
            <a:off x="4859280" y="2997000"/>
            <a:ext cx="114156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1432600">
            <a:off x="0" y="5949720"/>
            <a:ext cx="1141560" cy="6397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136"/>
                </a:moveTo>
                <a:cubicBezTo>
                  <a:pt x="88" y="356"/>
                  <a:pt x="176" y="576"/>
                  <a:pt x="288" y="568"/>
                </a:cubicBezTo>
                <a:cubicBezTo>
                  <a:pt x="400" y="560"/>
                  <a:pt x="600" y="176"/>
                  <a:pt x="672" y="88"/>
                </a:cubicBezTo>
                <a:cubicBezTo>
                  <a:pt x="744" y="0"/>
                  <a:pt x="732" y="20"/>
                  <a:pt x="720" y="4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351640" cy="281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第一单元第</a:t>
            </a: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4</a:t>
            </a:r>
            <a:r>
              <a:rPr b="1" lang="zh-CN" sz="6000" spc="-1" strike="noStrike">
                <a:solidFill>
                  <a:srgbClr val="cc6600"/>
                </a:solidFill>
                <a:latin typeface="华文新魏"/>
                <a:ea typeface="华文新魏"/>
              </a:rPr>
              <a:t>课</a:t>
            </a:r>
            <a:br>
              <a:rPr sz="4800"/>
            </a:br>
            <a:r>
              <a:rPr b="1" lang="zh-CN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明清君主专制的加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280360" y="6381720"/>
            <a:ext cx="863640" cy="476280"/>
          </a:xfrm>
          <a:custGeom>
            <a:avLst/>
            <a:gdLst>
              <a:gd name="textAreaLeft" fmla="*/ 30600 w 863640"/>
              <a:gd name="textAreaRight" fmla="*/ 833040 w 863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9154" h="21600">
                <a:moveTo>
                  <a:pt x="0" y="0"/>
                </a:moveTo>
                <a:lnTo>
                  <a:pt x="39154" y="0"/>
                </a:lnTo>
                <a:lnTo>
                  <a:pt x="39154" y="21600"/>
                </a:lnTo>
                <a:lnTo>
                  <a:pt x="0" y="21600"/>
                </a:lnTo>
                <a:close/>
              </a:path>
              <a:path fill="lightenLess" w="39154" h="21600">
                <a:moveTo>
                  <a:pt x="0" y="0"/>
                </a:moveTo>
                <a:lnTo>
                  <a:pt x="39154" y="0"/>
                </a:lnTo>
                <a:lnTo>
                  <a:pt x="37754" y="1400"/>
                </a:lnTo>
                <a:lnTo>
                  <a:pt x="1400" y="1400"/>
                </a:lnTo>
                <a:close/>
              </a:path>
              <a:path fill="darken" w="39154" h="21600">
                <a:moveTo>
                  <a:pt x="39154" y="0"/>
                </a:moveTo>
                <a:lnTo>
                  <a:pt x="39154" y="21600"/>
                </a:lnTo>
                <a:lnTo>
                  <a:pt x="37754" y="20200"/>
                </a:lnTo>
                <a:lnTo>
                  <a:pt x="37754" y="1400"/>
                </a:lnTo>
                <a:close/>
              </a:path>
              <a:path fill="darkenLess" w="39154" h="21600">
                <a:moveTo>
                  <a:pt x="39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4" y="20200"/>
                </a:lnTo>
                <a:close/>
              </a:path>
              <a:path fill="lighten" w="39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54" h="21600">
                <a:moveTo>
                  <a:pt x="12571" y="3794"/>
                </a:moveTo>
                <a:lnTo>
                  <a:pt x="26584" y="10800"/>
                </a:lnTo>
                <a:lnTo>
                  <a:pt x="12571" y="17806"/>
                </a:lnTo>
                <a:close/>
              </a:path>
            </a:pathLst>
          </a:cu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请思考：明清两朝为什么都要空前加强君主专制制度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4680000" cy="4221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背景和目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背景：中国封建社会开始步入晚期，统治阶级更加腐朽，社会矛盾更加尖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目的：为稳定、巩固封建统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15920"/>
            <a:ext cx="80643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一、明朝君主专制的加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65560" y="3232080"/>
            <a:ext cx="25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中央：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中书省和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丞相、权分六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1052640"/>
            <a:ext cx="8642160" cy="1130040"/>
          </a:xfrm>
          <a:prstGeom prst="rect">
            <a:avLst/>
          </a:prstGeom>
          <a:solidFill>
            <a:srgbClr val="99ffcc"/>
          </a:solidFill>
          <a:ln w="79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黑体"/>
              </a:rPr>
              <a:t>读史料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秦始皇置丞相，不旋踵而亡。汉、宋因之，虽有贤相，然其间多有小人专权乱政。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我朝罢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明史纪事本末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492360" y="4076640"/>
            <a:ext cx="4895640" cy="2852640"/>
            <a:chOff x="3492360" y="4076640"/>
            <a:chExt cx="4895640" cy="285264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657840" y="5619600"/>
              <a:ext cx="1730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492360" y="4076640"/>
              <a:ext cx="4410360" cy="1633320"/>
            </a:xfrm>
            <a:prstGeom prst="cloudCallout">
              <a:avLst>
                <a:gd name="adj1" fmla="val 30990"/>
                <a:gd name="adj2" fmla="val 78856"/>
              </a:avLst>
            </a:prstGeom>
            <a:gradFill rotWithShape="0">
              <a:gsLst>
                <a:gs pos="0">
                  <a:srgbClr val="ff5050"/>
                </a:gs>
                <a:gs pos="100000">
                  <a:srgbClr val="fe7e7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请问：为何“我朝罢相”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692280"/>
            <a:ext cx="864216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丞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胡惟庸骄恣擅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直接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朝丞相权势过重，以致皇权不稳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历史原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废行省设三司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统领中央各部的宰相，职权扩大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具体原因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权过大，威胁皇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根本原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80" y="0"/>
            <a:ext cx="41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华文新魏"/>
              </a:rPr>
              <a:t>）原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6093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皇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政务繁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身心疲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653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皇帝集皇权和相权于一身，君主专制进一步加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618000"/>
            <a:ext cx="48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（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2</a:t>
            </a: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华文新魏"/>
              </a:rPr>
              <a:t>）结果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04000" y="2781360"/>
            <a:ext cx="3240000" cy="1800000"/>
          </a:xfrm>
          <a:prstGeom prst="cloudCallout">
            <a:avLst>
              <a:gd name="adj1" fmla="val -53231"/>
              <a:gd name="adj2" fmla="val 126629"/>
            </a:avLst>
          </a:prstGeom>
          <a:gradFill rotWithShape="0">
            <a:gsLst>
              <a:gs pos="0">
                <a:srgbClr val="ff5050"/>
              </a:gs>
              <a:gs pos="100000">
                <a:srgbClr val="fe7e7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内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应运而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2060640"/>
            <a:ext cx="8964360" cy="2153160"/>
            <a:chOff x="0" y="2060640"/>
            <a:chExt cx="8964360" cy="2153160"/>
          </a:xfrm>
        </p:grpSpPr>
        <p:sp>
          <p:nvSpPr>
            <p:cNvPr id="103" name=""/>
            <p:cNvSpPr/>
            <p:nvPr/>
          </p:nvSpPr>
          <p:spPr>
            <a:xfrm>
              <a:off x="1425960" y="2556000"/>
              <a:ext cx="7538400" cy="165780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成祖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文渊阁大学士（参与机务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——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正式确立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2060640"/>
              <a:ext cx="1279440" cy="14090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0" y="189000"/>
            <a:ext cx="8964360" cy="2111400"/>
            <a:chOff x="0" y="189000"/>
            <a:chExt cx="8964360" cy="2111400"/>
          </a:xfrm>
        </p:grpSpPr>
        <p:sp>
          <p:nvSpPr>
            <p:cNvPr id="106" name=""/>
            <p:cNvSpPr/>
            <p:nvPr/>
          </p:nvSpPr>
          <p:spPr>
            <a:xfrm>
              <a:off x="1425960" y="1130040"/>
              <a:ext cx="7538400" cy="117036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新魏"/>
                </a:rPr>
                <a:t>明太祖：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殿阁大学士（侍从顾问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   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奠定基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0" y="189000"/>
              <a:ext cx="1279440" cy="1699920"/>
            </a:xfrm>
            <a:prstGeom prst="rect">
              <a:avLst/>
            </a:prstGeom>
            <a:ln w="9360">
              <a:solidFill>
                <a:srgbClr val="ff5050"/>
              </a:solidFill>
              <a:miter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0" y="3573360"/>
            <a:ext cx="8820000" cy="1978560"/>
            <a:chOff x="0" y="3573360"/>
            <a:chExt cx="8820000" cy="1978560"/>
          </a:xfrm>
        </p:grpSpPr>
        <p:sp>
          <p:nvSpPr>
            <p:cNvPr id="109" name=""/>
            <p:cNvSpPr/>
            <p:nvPr/>
          </p:nvSpPr>
          <p:spPr>
            <a:xfrm>
              <a:off x="1403280" y="3894120"/>
              <a:ext cx="7416720" cy="1657800"/>
            </a:xfrm>
            <a:prstGeom prst="rect">
              <a:avLst/>
            </a:prstGeom>
            <a:solidFill>
              <a:srgbClr val="b0eee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宣宗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内阁大学士（</a:t>
              </a:r>
              <a:r>
                <a:rPr b="1" lang="zh-CN" sz="3200" spc="-1" strike="noStrike">
                  <a:solidFill>
                    <a:srgbClr val="ff5050"/>
                  </a:solidFill>
                  <a:latin typeface="华文新魏"/>
                  <a:ea typeface="华文新魏"/>
                </a:rPr>
                <a:t>票拟权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             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发展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 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0" y="3573360"/>
              <a:ext cx="1258920" cy="158436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0" y="5229360"/>
            <a:ext cx="9143280" cy="1844640"/>
            <a:chOff x="0" y="5229360"/>
            <a:chExt cx="9143280" cy="1844640"/>
          </a:xfrm>
        </p:grpSpPr>
        <p:sp>
          <p:nvSpPr>
            <p:cNvPr id="112" name=""/>
            <p:cNvSpPr/>
            <p:nvPr/>
          </p:nvSpPr>
          <p:spPr>
            <a:xfrm>
              <a:off x="1472760" y="5516640"/>
              <a:ext cx="7670520" cy="1170360"/>
            </a:xfrm>
            <a:prstGeom prst="rect">
              <a:avLst/>
            </a:prstGeom>
            <a:solidFill>
              <a:srgbClr val="b0eeed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华文新魏"/>
                  <a:ea typeface="华文新魏"/>
                </a:rPr>
                <a:t>明神宗：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内阁首辅（张居正侵夺六部职权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               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全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0" y="5229360"/>
              <a:ext cx="1305000" cy="1844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</p:grpSp>
      <p:sp>
        <p:nvSpPr>
          <p:cNvPr id="114" name=""/>
          <p:cNvSpPr/>
          <p:nvPr/>
        </p:nvSpPr>
        <p:spPr>
          <a:xfrm>
            <a:off x="1692360" y="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内阁的出现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原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）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8000" y="1454040"/>
            <a:ext cx="8964720" cy="3018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阅读史料和课本第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页第一段大字：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万历四十年内阁首辅叶向高曾说： “</a:t>
            </a:r>
            <a:r>
              <a:rPr b="1" lang="zh-CN" sz="3200" spc="-1" strike="noStrike">
                <a:solidFill>
                  <a:srgbClr val="006000"/>
                </a:solidFill>
                <a:latin typeface="华文中宋"/>
                <a:ea typeface="华文中宋"/>
              </a:rPr>
              <a:t>我朝阁臣，只备论思顾问，原非宰相！中有一二权势稍重者，皆上窃君上威灵，下侵六曹之职掌，终以贾祸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神宗实录》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：明朝的内阁首辅就是变相重设的宰相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95280" y="5372280"/>
            <a:ext cx="622944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内阁首辅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==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宰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3640" y="4653000"/>
            <a:ext cx="711360" cy="98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ccec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?</a:t>
            </a:r>
            <a:endParaRPr b="1" lang="en-US" sz="1800" spc="1" strike="noStrike">
              <a:ln w="1908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117360"/>
            <a:ext cx="338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思考探究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14400" y="1125360"/>
          <a:ext cx="7467480" cy="4114800"/>
        </p:xfrm>
        <a:graphic>
          <a:graphicData uri="http://schemas.openxmlformats.org/drawingml/2006/table">
            <a:tbl>
              <a:tblPr/>
              <a:tblGrid>
                <a:gridCol w="198108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宰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内阁首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权力来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宰相制度赋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皇帝个人信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职  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一级决策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侍从咨询为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任  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要经皇帝及大臣商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直接由皇帝意愿决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对皇权影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制约皇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  <a:ea typeface="华文中宋"/>
                        </a:rPr>
                        <a:t>君主专制强化的产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900000" y="5300640"/>
            <a:ext cx="7488360" cy="14770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内阁首辅不同于宰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对皇权起到制约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98560" y="44280"/>
            <a:ext cx="3744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探究思路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8:50:40Z</dcterms:created>
  <dc:creator>吴光辉（皖马鞍山市红星中学）</dc:creator>
  <dc:description/>
  <dc:language>en-US</dc:language>
  <cp:lastModifiedBy>微软用户</cp:lastModifiedBy>
  <dcterms:modified xsi:type="dcterms:W3CDTF">2007-09-12T10:27:25Z</dcterms:modified>
  <cp:revision>170</cp:revision>
  <dc:subject/>
  <dc:title>第4课 明清君主专制的加强</dc:title>
</cp:coreProperties>
</file>